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6185E-5B11-48C8-A8E5-BCD1E9FDDBD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A609B-2376-486A-A472-E344334EB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866AE-CC3C-4FB0-AC12-48E7AD872E7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71557-53C6-4A69-948D-03F9E38F0BDD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69CBE-4EFF-4C42-A443-4C56888BF569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BE5C0-4799-44D7-82D2-A222D72E7341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645E7-C63A-4CF7-9242-DC9F8A0CD9B2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6386D-0C3E-45E6-8C04-5115E85226E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54F4-31DE-4ED8-8F0A-4DE300732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1569-8CB6-4743-8346-C19DC82D7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0579-E646-40C9-9552-D26F97AA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B9E6-B35C-4DCA-907A-A1FFA433F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F37D-8BF5-4EA0-A958-FCC665BA7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5FFFA-1086-4DF7-A785-B45856DB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1D039-0264-434F-AB2D-703A240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663EA-FFD7-4C7A-AF67-D0749960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A363-9507-489F-96E2-EBC15DC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BCB0B-78C2-421C-9557-059AFB6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A2E1-FF71-4E11-8341-171ACABF64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2CE32-4707-4EE1-8248-4DDED5DB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9381-B9C9-41A1-A322-B32BA08A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77F0-F3FB-4760-8181-7A2A322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84911-F4C0-4D55-8036-EFFAE74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C5A0-C2CE-4E16-84AD-D8475E03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8613-CC0B-4C1E-A214-2D4FCC8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1E716-8CD7-4EF7-AFA6-73AB9BAA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E645-384A-4352-854A-1501795DC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840F-07E0-495D-B45F-39FD85760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3F4A-247A-4C54-9CA9-1181BEA4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E531-46F9-4659-A341-560DFD9D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8E5E-E085-4581-8CEE-FB0664E0C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533C-2D7D-4175-9739-18F694460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C647-40D6-410B-94CA-62A7BE13FE8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E30-8244-4C5D-862F-99EE3C12A62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91B-0460-4CA3-AC01-823156D11A56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41" name="Image 9" descr=""/>
          <p:cNvPicPr/>
          <p:nvPr/>
        </p:nvPicPr>
        <p:blipFill>
          <a:blip r:embed="rId2"/>
          <a:srcRect l="2629" t="7171" r="5077" b="6948"/>
          <a:stretch/>
        </p:blipFill>
        <p:spPr>
          <a:xfrm>
            <a:off x="9085320" y="6415200"/>
            <a:ext cx="650880" cy="282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4131-A679-48DD-9807-5B5812540EA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0C9D3-01F8-4248-A5CE-0CA8C7190588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ous-titre 2"/>
          <p:cNvSpPr/>
          <p:nvPr/>
        </p:nvSpPr>
        <p:spPr>
          <a:xfrm>
            <a:off x="3022560" y="2550960"/>
            <a:ext cx="648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5880" y="24141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2 : Quelle résilience des futurs possibles ?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endParaRPr b="1" lang="en-US" sz="44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51200" y="1417680"/>
          <a:ext cx="7173720" cy="4568760"/>
        </p:xfrm>
        <a:graphic>
          <a:graphicData uri="http://schemas.openxmlformats.org/drawingml/2006/table">
            <a:tbl>
              <a:tblPr/>
              <a:tblGrid>
                <a:gridCol w="1347480"/>
                <a:gridCol w="43657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Horai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Helvetica Neue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8h45-9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Accueil – café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9h00-9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Introduction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s objectifs et de la méthodologie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 la crise et répartition en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9h15-10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Travail en 4 sous-groupes  (1 groupe par monde) : Préparation de la confér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Désignation de deux rapporteurs par 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Élaboration de la présentation qui sera faite lors de la conférence par chaque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221e1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paration des réponses aux question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15-10h3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Travail en 4 sous-groupes (1 groupe par monde) : Préparation des questions pour le déba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30-10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PAUSE CAF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0h45-12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Conférence 202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Présentation des solutions apportées par chaque monde à cette crise et déba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2h45-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Conclusion et annonce des prochaines éta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3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telier 2 – Mise en réci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000" y="1611360"/>
            <a:ext cx="8915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  la mise en récit des 4 mondes 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parer une intervention lors d’une conférence fictive qui se déroule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ace à une situation de crises multiples, proposer une analyse des marges de manœuvre de chaque monde et des pistes de solutions qui émergent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8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a fiche à renseigner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Imaginer la traduction de la crise dans chaque mond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Préparer les réponses aux questions de la Conférenc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La mise en situation :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désigne deux représentants et définit les rôles qu’ils doivent jouer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1h de préparation avant la Conférence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Conférence InterMondes 2025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4720" y="1870200"/>
          <a:ext cx="5727960" cy="3627360"/>
        </p:xfrm>
        <a:graphic>
          <a:graphicData uri="http://schemas.openxmlformats.org/drawingml/2006/table">
            <a:tbl>
              <a:tblPr/>
              <a:tblGrid>
                <a:gridCol w="893880"/>
                <a:gridCol w="483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éroulé</a:t>
                      </a:r>
                      <a:endParaRPr b="0" lang="en-US" sz="16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Introduction de la Conférence Intermondes 2025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résentation des règles du jeu par l’animateur et mise en situation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80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8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 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r>
                        <a:rPr b="1" lang="fr-FR" sz="1100" spc="-1" strike="noStrike" baseline="30000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ère</a:t>
                      </a: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 table ronde ave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Statu Quo » - 2 rapporteurs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Alternative » - 2 rapporteurs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avec le publi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80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r>
                        <a:rPr b="1" lang="fr-FR" sz="1100" spc="-1" strike="noStrike" baseline="30000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nde</a:t>
                      </a: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 table ronde ave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Catastrophe » - 2 rapporteurs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lvl="1" marL="628560" indent="-171360"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Arial"/>
                        <a:buChar char="•"/>
                        <a:tabLst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le Monde « Techno» - 2 rapporteurs 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Questions-réponses avec le public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2 min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7e1465"/>
                      </a:solidFill>
                    </a:lnL>
                    <a:lnR>
                      <a:noFill/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8954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Mot de conclusion de la Conférence</a:t>
                      </a:r>
                      <a:endParaRPr b="0" lang="en-US" sz="11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e1465"/>
                      </a:solidFill>
                    </a:lnR>
                    <a:lnT w="5760">
                      <a:solidFill>
                        <a:srgbClr val="7e1465"/>
                      </a:solidFill>
                    </a:lnT>
                    <a:lnB w="5760">
                      <a:solidFill>
                        <a:srgbClr val="7e146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e multiplication des crises climatiques et 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environnementa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000" y="3119400"/>
            <a:ext cx="89154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Le 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rythm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e des événements climatiques 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	</a:t>
            </a: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extrêmes s’accélère 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prochains rendez-vou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000" y="1425600"/>
            <a:ext cx="85611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Quelles formes de contribution dans ces futurs possi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l s’agira pour différents types de projet (alimentation, aménagement, économie, énergie et projet de territoire) d’imaginer les formes de contribution dans chacun des mondes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Quels futurs souhaitables ?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Un ou plusieurs futurs souhaitables seront définis de façon collective. Ils mêleront les mondes créés ainsi que les formes de contribution possibles définies en amont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e1465"/>
                </a:solidFill>
                <a:latin typeface="Tahoma"/>
              </a:rPr>
              <a:t>Comment y parvenir ? </a:t>
            </a:r>
            <a:endParaRPr b="1" lang="en-US" sz="20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d"/>
                </a:solidFill>
                <a:latin typeface="Tahoma"/>
              </a:rPr>
              <a:t>Date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et atelier permettra de définir collectivement une feuille de route et d’identifier les leviers d’actions pour aller vers les scénarios souhaités pour 2025.</a:t>
            </a: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2" marL="257760" indent="-2577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88ad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404880" y="2649600"/>
            <a:ext cx="4800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0T16:24:18Z</dcterms:modified>
  <cp:revision>327</cp:revision>
  <dc:subject/>
  <dc:title>Présentation PowerPoint</dc:title>
</cp:coreProperties>
</file>