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A90BF-CE6D-4EA2-8EAA-D5C7E6049D8A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C2D26-FCE2-486F-9DBD-74CB92AC6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79798-50B2-40C6-BA6E-3F003D2CFDA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BDB39-E730-4C2D-945D-553F5CF59059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DB184-FF55-4DCB-893C-6DEC457EFE6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3BB76-02DA-4FEA-8B47-B47C94B04177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2A916-49BA-4EE8-834B-5D7D633A9C1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77DC9-88B5-48AD-84FC-72545CE1FA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8B60B-463A-41D9-B91A-1054D6F3570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4123F-4B41-42F3-9E41-ABF77C9BE29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B9469-E0D6-4CF4-9090-62757C5319E2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43882-8203-451F-A225-1F042B15AB72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468F-8B05-45B0-B743-5572BA872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6BCC-42AE-44DA-BB5F-461DDC6F6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7B74-DDEF-418E-ADFC-2989E9480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C0C4-7B23-4CBA-A9BF-F984D4788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A205-5E5D-469B-8B13-9CAE03B70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532BC-1696-4C59-8540-375C1A29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7810-4326-4124-9DAB-F43DC465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94D3A-6AB0-4F84-BA74-E8029CF2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6BB28-7186-4617-81A4-E15D725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9B39D-DB78-4664-973F-504E4C9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5A46-F117-408E-A9A4-7E768920D4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B0836-C469-49F0-9C77-BE8085A5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108CC-26B6-4111-AC0A-3DE5F24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E943-BD3F-4719-BD95-3D680DC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D101F-32B1-4D61-B0FB-D7917A6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DACCF-77BB-47AD-A7E5-30110B0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17EAB-87F2-4881-8999-AC9C0601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335CA-DFEC-4BC5-A463-36C05094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9A90-698A-4BCC-85B8-87951DE71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FEBA-49A4-4E36-AEA7-15AC58954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291E-1F8E-4333-9DDC-4067C843C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6C1F-44C4-4F8A-BAE9-7CCFB56D5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0088-4C54-4738-BA76-E0DB61B21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08D7-6A5D-401F-B967-FC8787B3E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B60-454D-48B8-92C7-2EDFFFF8A24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E357-3371-4D49-A095-0A0DC70380E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BD4-B0A1-4A73-89AA-F8E9F09854A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4AC-1EAC-4E8A-B1E2-A3C45302A8E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4D6B1-F197-4A2E-A7B3-8B2B2D6A651C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ous-titre 2"/>
          <p:cNvSpPr/>
          <p:nvPr/>
        </p:nvSpPr>
        <p:spPr>
          <a:xfrm>
            <a:off x="843120" y="2822400"/>
            <a:ext cx="853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5 : Comment y parvenir ?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8a798"/>
                </a:solidFill>
                <a:latin typeface="Tahoma"/>
                <a:ea typeface="ヒラギノ角ゴ ProN W3"/>
              </a:rPr>
              <a:t>Date de l’atelier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Temps 2 : les fiches actions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91" name="Carré corné 22"/>
          <p:cNvSpPr/>
          <p:nvPr/>
        </p:nvSpPr>
        <p:spPr>
          <a:xfrm>
            <a:off x="4616280" y="1359000"/>
            <a:ext cx="3381480" cy="32796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7e1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Nom de l’action : …………………………………</a:t>
            </a:r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Quoi ?</a:t>
            </a: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Qui ? Coller les gommettes correspondant aux acteurs impliqués</a:t>
            </a:r>
            <a:endParaRPr b="0" lang="en-US" sz="9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2" name="ZoneTexte 1"/>
          <p:cNvSpPr/>
          <p:nvPr/>
        </p:nvSpPr>
        <p:spPr>
          <a:xfrm>
            <a:off x="1679400" y="4970520"/>
            <a:ext cx="56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tte action nécessite des préalables, des conditions ou des points de vigilance sont à anticiper ?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post-it libr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3" name="ZoneTexte 1"/>
          <p:cNvSpPr/>
          <p:nvPr/>
        </p:nvSpPr>
        <p:spPr>
          <a:xfrm>
            <a:off x="495360" y="1658880"/>
            <a:ext cx="296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009e8d"/>
                </a:solidFill>
                <a:uFillTx/>
                <a:latin typeface="Calibri"/>
              </a:rPr>
              <a:t>Consignes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buClr>
                <a:srgbClr val="009e8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9e8d"/>
                </a:solidFill>
                <a:latin typeface="Calibri"/>
              </a:rPr>
              <a:t>Qu’est-ce qui est le plus efficace pour y arriver ?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buClr>
                <a:srgbClr val="009e8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9e8d"/>
                </a:solidFill>
                <a:latin typeface="Calibri"/>
              </a:rPr>
              <a:t>Qui est impliqué ? (gommettes acteur)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buClr>
                <a:srgbClr val="009e8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9e8d"/>
                </a:solidFill>
                <a:latin typeface="Calibri"/>
              </a:rPr>
              <a:t>!!! Chacun joue son rôle !!!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4" name="Carré corné 7"/>
          <p:cNvSpPr/>
          <p:nvPr/>
        </p:nvSpPr>
        <p:spPr>
          <a:xfrm>
            <a:off x="7277040" y="4971960"/>
            <a:ext cx="1808280" cy="1044720"/>
          </a:xfrm>
          <a:prstGeom prst="foldedCorner">
            <a:avLst>
              <a:gd name="adj" fmla="val 16666"/>
            </a:avLst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616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Temps 2 : la frise du temps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grpSp>
        <p:nvGrpSpPr>
          <p:cNvPr id="196" name="Groupe 2"/>
          <p:cNvGrpSpPr/>
          <p:nvPr/>
        </p:nvGrpSpPr>
        <p:grpSpPr>
          <a:xfrm>
            <a:off x="757440" y="2787480"/>
            <a:ext cx="8261280" cy="1683000"/>
            <a:chOff x="757440" y="2787480"/>
            <a:chExt cx="8261280" cy="1683000"/>
          </a:xfrm>
        </p:grpSpPr>
        <p:sp>
          <p:nvSpPr>
            <p:cNvPr id="197" name="Rectangle 8"/>
            <p:cNvSpPr/>
            <p:nvPr/>
          </p:nvSpPr>
          <p:spPr>
            <a:xfrm>
              <a:off x="6508800" y="3165120"/>
              <a:ext cx="2509920" cy="539640"/>
            </a:xfrm>
            <a:prstGeom prst="rect">
              <a:avLst/>
            </a:prstGeom>
            <a:solidFill>
              <a:srgbClr val="7e1465"/>
            </a:solidFill>
            <a:ln w="25560">
              <a:solidFill>
                <a:srgbClr val="5b0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ヒラギノ角ゴ ProN W3"/>
                </a:rPr>
                <a:t>Initiative 1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98" name="Flèche droite à entaille 14"/>
            <p:cNvSpPr/>
            <p:nvPr/>
          </p:nvSpPr>
          <p:spPr>
            <a:xfrm>
              <a:off x="917280" y="2787480"/>
              <a:ext cx="5497560" cy="1278000"/>
            </a:xfrm>
            <a:custGeom>
              <a:avLst/>
              <a:gdLst>
                <a:gd name="textAreaLeft" fmla="*/ 271800 w 5497560"/>
                <a:gd name="textAreaRight" fmla="*/ 5225760 w 5497560"/>
                <a:gd name="textAreaTop" fmla="*/ 319320 h 1278000"/>
                <a:gd name="textAreaBottom" fmla="*/ 958680 h 12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9464" y="5400"/>
                  </a:ln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19464" y="16200"/>
                  </a:lnTo>
                  <a:lnTo>
                    <a:pt x="0" y="16200"/>
                  </a:lnTo>
                  <a:lnTo>
                    <a:pt x="1068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99" name="Carré corné 18"/>
            <p:cNvSpPr/>
            <p:nvPr/>
          </p:nvSpPr>
          <p:spPr>
            <a:xfrm>
              <a:off x="3629160" y="36147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0" name="Carré corné 22"/>
            <p:cNvSpPr/>
            <p:nvPr/>
          </p:nvSpPr>
          <p:spPr>
            <a:xfrm>
              <a:off x="1455480" y="34509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1" name="Carré corné 23"/>
            <p:cNvSpPr/>
            <p:nvPr/>
          </p:nvSpPr>
          <p:spPr>
            <a:xfrm>
              <a:off x="4579920" y="3004920"/>
              <a:ext cx="849240" cy="485640"/>
            </a:xfrm>
            <a:prstGeom prst="foldedCorner">
              <a:avLst>
                <a:gd name="adj" fmla="val 16666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2" name="Carré corné 24"/>
            <p:cNvSpPr/>
            <p:nvPr/>
          </p:nvSpPr>
          <p:spPr>
            <a:xfrm>
              <a:off x="5005440" y="36129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3" name="Carré corné 26"/>
            <p:cNvSpPr/>
            <p:nvPr/>
          </p:nvSpPr>
          <p:spPr>
            <a:xfrm>
              <a:off x="1966680" y="303336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4" name="Carré corné 27"/>
            <p:cNvSpPr/>
            <p:nvPr/>
          </p:nvSpPr>
          <p:spPr>
            <a:xfrm>
              <a:off x="2973240" y="3016080"/>
              <a:ext cx="850680" cy="484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7e1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ヒラギノ角ゴ ProN W3"/>
                </a:rPr>
                <a:t>Action</a:t>
              </a:r>
              <a:endParaRPr b="0" lang="en-US" sz="10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5" name="Rectangle 1"/>
            <p:cNvSpPr/>
            <p:nvPr/>
          </p:nvSpPr>
          <p:spPr>
            <a:xfrm>
              <a:off x="3418200" y="41004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20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757440" y="409896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15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207" name="ZoneTexte 25"/>
            <p:cNvSpPr/>
            <p:nvPr/>
          </p:nvSpPr>
          <p:spPr>
            <a:xfrm>
              <a:off x="5197680" y="410220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25</a:t>
              </a: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616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Déroulé du travail en groupe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57520" y="1944720"/>
          <a:ext cx="6864120" cy="2959200"/>
        </p:xfrm>
        <a:graphic>
          <a:graphicData uri="http://schemas.openxmlformats.org/drawingml/2006/table">
            <a:tbl>
              <a:tblPr/>
              <a:tblGrid>
                <a:gridCol w="1385640"/>
                <a:gridCol w="5478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éroulé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Tâches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370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TEMPS 1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0-15h05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Distribution des rôles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5-15h15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Présentation des initiatives à aborder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15-15h45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Brainstorming sur l’initiative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TEMPS 2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00-16h50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Définition des actions et positionnement sur la frise du temps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50-17h00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d0d0d"/>
                          </a:solidFill>
                          <a:latin typeface="Arial"/>
                          <a:ea typeface="ヒラギノ角ゴ ProN W3"/>
                        </a:rPr>
                        <a:t>Préparation de la restitution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616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Restitution en plénière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2239920" y="2994120"/>
            <a:ext cx="544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es frises par chaque sous-groupe</a:t>
            </a:r>
            <a:endParaRPr b="0" lang="en-US" sz="3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433240" y="2643120"/>
            <a:ext cx="480060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 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74960" y="1317600"/>
          <a:ext cx="7172280" cy="4700520"/>
        </p:xfrm>
        <a:graphic>
          <a:graphicData uri="http://schemas.openxmlformats.org/drawingml/2006/table">
            <a:tbl>
              <a:tblPr/>
              <a:tblGrid>
                <a:gridCol w="1074600"/>
                <a:gridCol w="463716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00-14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ccueil des participant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15-14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our de table des particip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30-15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troduction en plénière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u scénario souhaitabl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e la méthode de travail et des attendus de l’atelier 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épartition en groupes et consignes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0-15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groupe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ésignation de deux rapporteurs par groupe/sous-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emps 1 : brainstorming en groupe sur le sujet à trait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45-16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AUS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00-17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emps 2 : définition collective du chemin pour y arriv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paration de la synthèse de 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00-17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estitution des travaux en sous groupes en séance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par les rapporteurs des résultats de chaque sous-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Echanges et débats avec les autres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45-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onclusio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d"/>
                </a:solidFill>
                <a:latin typeface="Tahoma"/>
              </a:rPr>
              <a:t>Retour sur les ateliers précédents</a:t>
            </a: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78080" y="1476360"/>
            <a:ext cx="830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Atelier 1 : Quel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Description de l’environnement territorial et de la gouvernance locale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Atelier</a:t>
            </a: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 2 : Quelle résilience de ce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0" i="1" lang="fr-FR" sz="1600" spc="-1" strike="noStrike">
                <a:solidFill>
                  <a:srgbClr val="7e1465"/>
                </a:solidFill>
                <a:latin typeface="Tahoma"/>
              </a:rPr>
              <a:t>Le rythme des </a:t>
            </a:r>
            <a:r>
              <a:rPr b="0" i="1" lang="fr-FR" sz="1600" spc="-1" strike="noStrike">
                <a:solidFill>
                  <a:srgbClr val="18a798"/>
                </a:solidFill>
                <a:latin typeface="Tahoma"/>
              </a:rPr>
              <a:t>événements</a:t>
            </a:r>
            <a:r>
              <a:rPr b="0" i="1" lang="fr-FR" sz="1600" spc="-1" strike="noStrike">
                <a:solidFill>
                  <a:srgbClr val="7e1465"/>
                </a:solidFill>
                <a:latin typeface="Tahoma"/>
              </a:rPr>
              <a:t> climatiques extrêmes s’accélère !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Face à une situation de crises multiples, analyse des marges de manœuvre de chaque monde et des pistes de solutions qui émergent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Atelier 3 : Quelles formes de contribution dans ce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Élaboration de fiches « initiatives de contribution » en 2025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  <a:ea typeface="ヒラギノ角ゴ ProN W6"/>
              </a:rPr>
              <a:t>Atelier 4 : Quels futurs souhaita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d"/>
                </a:solidFill>
                <a:latin typeface="Tahoma"/>
              </a:rPr>
              <a:t>Définition de visions souhaitables, pour une démocratie contributive au service de la transition écologique, par typologie d’acteurs 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  <a:p>
            <a:pPr lvl="1" marL="457200" indent="-45720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Présentation de la vision d’une démocratie contributive souhaitée en 2025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8080" y="1476360"/>
            <a:ext cx="83023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PGothic"/>
              </a:rPr>
              <a:t>Présentation du scénario construit à partir de l’atelier précédent</a:t>
            </a:r>
            <a:endParaRPr b="1" lang="en-US" sz="24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Synthèse de la vision 2025 (à adapter à votre scénario)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0600" y="1362240"/>
            <a:ext cx="4686480" cy="40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e1465"/>
                </a:solidFill>
                <a:latin typeface="Tahoma"/>
              </a:rPr>
              <a:t>Quatre briques de base, déclinées en trois initiatives :</a:t>
            </a:r>
            <a:r>
              <a:rPr b="1" lang="fr-FR" sz="12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1200" spc="-1" strike="noStrike">
                <a:solidFill>
                  <a:srgbClr val="7e1465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37" name="Diagramme 5" descr=""/>
          <p:cNvPicPr/>
          <p:nvPr/>
        </p:nvPicPr>
        <p:blipFill>
          <a:blip r:embed="rId1"/>
          <a:stretch/>
        </p:blipFill>
        <p:spPr>
          <a:xfrm>
            <a:off x="480960" y="1627200"/>
            <a:ext cx="807732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Comment y parvenir ?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53920" y="1417320"/>
            <a:ext cx="8016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Méthode du backcasting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On part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vision souhaitée d’une démocratie contributive en Île-de-Franc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, définie lors des ateliers précédents…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…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et on identifie les cheminements pour y arriver.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3" marL="1800360" indent="-4572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40" name="Image 2" descr=""/>
          <p:cNvPicPr/>
          <p:nvPr/>
        </p:nvPicPr>
        <p:blipFill>
          <a:blip r:embed="rId1"/>
          <a:stretch/>
        </p:blipFill>
        <p:spPr>
          <a:xfrm>
            <a:off x="2478240" y="3056040"/>
            <a:ext cx="6399000" cy="3019320"/>
          </a:xfrm>
          <a:prstGeom prst="rect">
            <a:avLst/>
          </a:prstGeom>
          <a:ln w="0">
            <a:noFill/>
          </a:ln>
        </p:spPr>
      </p:pic>
      <p:sp>
        <p:nvSpPr>
          <p:cNvPr id="141" name="ZoneTexte 3"/>
          <p:cNvSpPr/>
          <p:nvPr/>
        </p:nvSpPr>
        <p:spPr>
          <a:xfrm>
            <a:off x="3209760" y="6126120"/>
            <a:ext cx="281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 u="sng">
                <a:solidFill>
                  <a:srgbClr val="009e8d"/>
                </a:solidFill>
                <a:uFillTx/>
                <a:latin typeface="Calibri"/>
              </a:rPr>
              <a:t>Source</a:t>
            </a:r>
            <a:r>
              <a:rPr b="0" lang="fr-FR" sz="1100" spc="-1" strike="noStrike">
                <a:solidFill>
                  <a:srgbClr val="009e8d"/>
                </a:solidFill>
                <a:latin typeface="Calibri"/>
              </a:rPr>
              <a:t> : The Natural Step</a:t>
            </a:r>
            <a:endParaRPr b="0" lang="en-US" sz="11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4"/>
          <p:cNvSpPr/>
          <p:nvPr/>
        </p:nvSpPr>
        <p:spPr>
          <a:xfrm>
            <a:off x="903240" y="2982960"/>
            <a:ext cx="6405480" cy="0"/>
          </a:xfrm>
          <a:prstGeom prst="line">
            <a:avLst/>
          </a:prstGeom>
          <a:ln w="76320">
            <a:solidFill>
              <a:srgbClr val="7f7f7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7236000" y="2475000"/>
            <a:ext cx="742680" cy="1093320"/>
            <a:chOff x="7236000" y="2475000"/>
            <a:chExt cx="742680" cy="1093320"/>
          </a:xfrm>
        </p:grpSpPr>
        <p:sp>
          <p:nvSpPr>
            <p:cNvPr id="144" name="Rectangle 26"/>
            <p:cNvSpPr/>
            <p:nvPr/>
          </p:nvSpPr>
          <p:spPr>
            <a:xfrm>
              <a:off x="7236000" y="320184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7521480" y="328932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7502400" y="247500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7759800" y="264492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7769160" y="310680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sp>
        <p:nvSpPr>
          <p:cNvPr id="149" name="Arc 40"/>
          <p:cNvSpPr/>
          <p:nvPr/>
        </p:nvSpPr>
        <p:spPr>
          <a:xfrm rot="18811800">
            <a:off x="4212000" y="1510560"/>
            <a:ext cx="2201760" cy="14130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fill="none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</a:path>
              <a:path stroke="0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  <a:lnTo>
                  <a:pt x="6891" y="21600"/>
                </a:lnTo>
                <a:lnTo>
                  <a:pt x="-1" y="1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50" name="Arc 45"/>
          <p:cNvSpPr/>
          <p:nvPr/>
        </p:nvSpPr>
        <p:spPr>
          <a:xfrm rot="18811800">
            <a:off x="1972080" y="1685160"/>
            <a:ext cx="2201760" cy="14130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fill="none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</a:path>
              <a:path stroke="0" w="28491" h="21600">
                <a:moveTo>
                  <a:pt x="-1" y="1128"/>
                </a:moveTo>
                <a:cubicBezTo>
                  <a:pt x="2220" y="381"/>
                  <a:pt x="4547" y="-1"/>
                  <a:pt x="6891" y="-1"/>
                </a:cubicBezTo>
                <a:cubicBezTo>
                  <a:pt x="18820" y="-1"/>
                  <a:pt x="28491" y="9670"/>
                  <a:pt x="28491" y="21600"/>
                </a:cubicBezTo>
                <a:lnTo>
                  <a:pt x="6891" y="21600"/>
                </a:lnTo>
                <a:lnTo>
                  <a:pt x="-1" y="1128"/>
                </a:lnTo>
                <a:close/>
              </a:path>
            </a:pathLst>
          </a:custGeom>
          <a:noFill/>
          <a:ln w="57240">
            <a:solidFill>
              <a:srgbClr val="b2b2b2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grpSp>
        <p:nvGrpSpPr>
          <p:cNvPr id="151" name="Grouper 140"/>
          <p:cNvGrpSpPr/>
          <p:nvPr/>
        </p:nvGrpSpPr>
        <p:grpSpPr>
          <a:xfrm>
            <a:off x="4343400" y="2019240"/>
            <a:ext cx="1933560" cy="1971720"/>
            <a:chOff x="4343400" y="2019240"/>
            <a:chExt cx="1933560" cy="1971720"/>
          </a:xfrm>
        </p:grpSpPr>
        <p:sp>
          <p:nvSpPr>
            <p:cNvPr id="152" name="Rectangle 76"/>
            <p:cNvSpPr/>
            <p:nvPr/>
          </p:nvSpPr>
          <p:spPr>
            <a:xfrm>
              <a:off x="4924440" y="37432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3" name="Rectangle 77"/>
            <p:cNvSpPr/>
            <p:nvPr/>
          </p:nvSpPr>
          <p:spPr>
            <a:xfrm>
              <a:off x="5724720" y="34480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4" name="Rectangle 78"/>
            <p:cNvSpPr/>
            <p:nvPr/>
          </p:nvSpPr>
          <p:spPr>
            <a:xfrm>
              <a:off x="5429160" y="37720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5" name="Rectangle 79"/>
            <p:cNvSpPr/>
            <p:nvPr/>
          </p:nvSpPr>
          <p:spPr>
            <a:xfrm>
              <a:off x="5943600" y="37720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6" name="Rectangle 80"/>
            <p:cNvSpPr/>
            <p:nvPr/>
          </p:nvSpPr>
          <p:spPr>
            <a:xfrm>
              <a:off x="4400280" y="34671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7" name="Rectangle 81"/>
            <p:cNvSpPr/>
            <p:nvPr/>
          </p:nvSpPr>
          <p:spPr>
            <a:xfrm>
              <a:off x="5419800" y="223812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8" name="Rectangle 82"/>
            <p:cNvSpPr/>
            <p:nvPr/>
          </p:nvSpPr>
          <p:spPr>
            <a:xfrm>
              <a:off x="6067440" y="22953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59" name="Rectangle 83"/>
            <p:cNvSpPr/>
            <p:nvPr/>
          </p:nvSpPr>
          <p:spPr>
            <a:xfrm>
              <a:off x="4943520" y="249552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0" name="Rectangle 84"/>
            <p:cNvSpPr/>
            <p:nvPr/>
          </p:nvSpPr>
          <p:spPr>
            <a:xfrm>
              <a:off x="4343400" y="23907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1" name="Rectangle 85"/>
            <p:cNvSpPr/>
            <p:nvPr/>
          </p:nvSpPr>
          <p:spPr>
            <a:xfrm>
              <a:off x="4705200" y="201924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grpSp>
        <p:nvGrpSpPr>
          <p:cNvPr id="162" name="Grouper 3"/>
          <p:cNvGrpSpPr/>
          <p:nvPr/>
        </p:nvGrpSpPr>
        <p:grpSpPr>
          <a:xfrm>
            <a:off x="2371680" y="2279520"/>
            <a:ext cx="1295280" cy="1638360"/>
            <a:chOff x="2371680" y="2279520"/>
            <a:chExt cx="1295280" cy="1638360"/>
          </a:xfrm>
        </p:grpSpPr>
        <p:sp>
          <p:nvSpPr>
            <p:cNvPr id="163" name="Rectangle 87"/>
            <p:cNvSpPr/>
            <p:nvPr/>
          </p:nvSpPr>
          <p:spPr>
            <a:xfrm>
              <a:off x="3457440" y="369900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4" name="Rectangle 88"/>
            <p:cNvSpPr/>
            <p:nvPr/>
          </p:nvSpPr>
          <p:spPr>
            <a:xfrm>
              <a:off x="2676240" y="354636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5" name="Rectangle 89"/>
            <p:cNvSpPr/>
            <p:nvPr/>
          </p:nvSpPr>
          <p:spPr>
            <a:xfrm>
              <a:off x="2933640" y="232704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6" name="Rectangle 90"/>
            <p:cNvSpPr/>
            <p:nvPr/>
          </p:nvSpPr>
          <p:spPr>
            <a:xfrm>
              <a:off x="2371680" y="24508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7" name="Rectangle 91"/>
            <p:cNvSpPr/>
            <p:nvPr/>
          </p:nvSpPr>
          <p:spPr>
            <a:xfrm>
              <a:off x="3286080" y="293688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68" name="Rectangle 92"/>
            <p:cNvSpPr/>
            <p:nvPr/>
          </p:nvSpPr>
          <p:spPr>
            <a:xfrm>
              <a:off x="3438360" y="2279520"/>
              <a:ext cx="209520" cy="218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sp>
        <p:nvSpPr>
          <p:cNvPr id="169" name="ZoneTexte 145"/>
          <p:cNvSpPr/>
          <p:nvPr/>
        </p:nvSpPr>
        <p:spPr>
          <a:xfrm>
            <a:off x="341280" y="6094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fier les étapes pour parvenir au futur souhaité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6597720" y="2244600"/>
            <a:ext cx="2060640" cy="2733840"/>
          </a:xfrm>
          <a:prstGeom prst="rect">
            <a:avLst/>
          </a:prstGeom>
          <a:noFill/>
          <a:ln w="34920">
            <a:solidFill>
              <a:srgbClr val="009e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1" name="ZoneTexte 2"/>
          <p:cNvSpPr/>
          <p:nvPr/>
        </p:nvSpPr>
        <p:spPr>
          <a:xfrm>
            <a:off x="8562960" y="213372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   </a:t>
            </a: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Brique 1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683400" y="3763800"/>
            <a:ext cx="1879560" cy="408240"/>
          </a:xfrm>
          <a:prstGeom prst="rect">
            <a:avLst/>
          </a:prstGeom>
          <a:solidFill>
            <a:srgbClr val="7e1465"/>
          </a:solidFill>
          <a:ln w="25560">
            <a:solidFill>
              <a:srgbClr val="5b0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Initiative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218040" y="5391000"/>
            <a:ext cx="209520" cy="2797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209760" y="5888160"/>
            <a:ext cx="209880" cy="21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5" name="ZoneTexte 1"/>
          <p:cNvSpPr/>
          <p:nvPr/>
        </p:nvSpPr>
        <p:spPr>
          <a:xfrm>
            <a:off x="3524400" y="5349960"/>
            <a:ext cx="41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Calibri"/>
              </a:rPr>
              <a:t>Temps 1 : description de l’initiative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76" name="ZoneTexte 56"/>
          <p:cNvSpPr/>
          <p:nvPr/>
        </p:nvSpPr>
        <p:spPr>
          <a:xfrm>
            <a:off x="3513240" y="5811840"/>
            <a:ext cx="41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Calibri"/>
              </a:rPr>
              <a:t>Temps 2 : description des actions pour y arriver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Consignes de travail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53920" y="1417320"/>
            <a:ext cx="8016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254880" indent="-2548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Animation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54880" indent="-2548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épartition en 4 groupes, selon les 4 briques de base de la vision 2025 (à adapter à votre scénario) : 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a redéfinition du rôle de l’élu comme médiateur et l’essor de parlements mixtes locaux 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e développement du mode coopératif autour d’une économie locale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’engagement citoyen dans la construction de l’intérêt général 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Le partage des savoirs et la co-production de connaissances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marL="2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Chaque brique comporte plusieurs initiatives de contribution dont seules une à deux seront développées aujourd’hui.</a:t>
            </a:r>
            <a:endParaRPr b="1" lang="en-US" sz="1400" spc="-1" strike="noStrike">
              <a:solidFill>
                <a:srgbClr val="7e1465"/>
              </a:solidFill>
              <a:latin typeface="Tahoma"/>
            </a:endParaRPr>
          </a:p>
          <a:p>
            <a:pPr marL="2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2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Au sein de chaque groupe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Distribution des rôles et désignation de deux rapporteurs par sous-groupe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</a:rPr>
              <a:t>Présentation par l’animateur des deux initiatives de contribution</a:t>
            </a:r>
            <a:endParaRPr b="1" lang="en-US" sz="1400" spc="-1" strike="noStrike">
              <a:solidFill>
                <a:srgbClr val="009e8d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800" spc="-1" strike="noStrike">
              <a:solidFill>
                <a:srgbClr val="009e8d"/>
              </a:solidFill>
              <a:latin typeface="Tahoma (corps)"/>
            </a:endParaRPr>
          </a:p>
          <a:p>
            <a:pPr lvl="1" marL="37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Puis deux temps de réflexion: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37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Temps 1 = brainstorming sur l’initiative à traiter</a:t>
            </a:r>
            <a:endParaRPr b="1" lang="en-US" sz="1400" spc="-1" strike="noStrike">
              <a:solidFill>
                <a:srgbClr val="cf1e75"/>
              </a:solidFill>
              <a:latin typeface="Tahoma (corps)"/>
            </a:endParaRPr>
          </a:p>
          <a:p>
            <a:pPr lvl="2" marL="254880" indent="-2548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00" spc="-1" strike="noStrike">
              <a:solidFill>
                <a:srgbClr val="000000"/>
              </a:solidFill>
              <a:latin typeface="Tahoma (corps)"/>
            </a:endParaRPr>
          </a:p>
          <a:p>
            <a:pPr lvl="1" marL="37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Temps 2 = définition collective du chemin pour y arriver</a:t>
            </a:r>
            <a:endParaRPr b="1" lang="en-US" sz="1400" spc="-1" strike="noStrike">
              <a:solidFill>
                <a:srgbClr val="cf1e75"/>
              </a:solidFill>
              <a:latin typeface="Tahoma (corps)"/>
            </a:endParaRPr>
          </a:p>
          <a:p>
            <a:pPr lvl="3" marL="1095120" indent="-429480">
              <a:lnSpc>
                <a:spcPct val="100000"/>
              </a:lnSpc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200" spc="-1" strike="noStrike">
                <a:solidFill>
                  <a:srgbClr val="009e8d"/>
                </a:solidFill>
                <a:latin typeface="Arial"/>
              </a:rPr>
              <a:t>Qu’est-ce qui est le plus efficace pour y arriver ? </a:t>
            </a:r>
            <a:endParaRPr b="1" lang="en-US" sz="1200" spc="-1" strike="noStrike">
              <a:solidFill>
                <a:srgbClr val="009e8d"/>
              </a:solidFill>
              <a:latin typeface="Tahoma (corps)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2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200" spc="-1" strike="noStrike">
                <a:solidFill>
                  <a:srgbClr val="009e8d"/>
                </a:solidFill>
                <a:latin typeface="Tahoma"/>
              </a:rPr>
              <a:t>Atelier 5 – Temps 1 : brainstorming</a:t>
            </a:r>
            <a:endParaRPr b="1" lang="en-US" sz="32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047600" y="1951200"/>
            <a:ext cx="383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résentation de l’initiative par l’animateur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écoute pro-activ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noter sur post-it les éléments saillants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2) Décrivez votre initiative en 5 post-it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3) Mise en commun et positionnement sur la fris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grpSp>
        <p:nvGrpSpPr>
          <p:cNvPr id="181" name="Group 25"/>
          <p:cNvGrpSpPr/>
          <p:nvPr/>
        </p:nvGrpSpPr>
        <p:grpSpPr>
          <a:xfrm>
            <a:off x="6678720" y="2490840"/>
            <a:ext cx="742680" cy="1093320"/>
            <a:chOff x="6678720" y="2490840"/>
            <a:chExt cx="742680" cy="1093320"/>
          </a:xfrm>
        </p:grpSpPr>
        <p:sp>
          <p:nvSpPr>
            <p:cNvPr id="182" name="Rectangle 26"/>
            <p:cNvSpPr/>
            <p:nvPr/>
          </p:nvSpPr>
          <p:spPr>
            <a:xfrm>
              <a:off x="6678720" y="321768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6964200" y="330516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6945120" y="249084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5" name="Rectangle 29"/>
            <p:cNvSpPr/>
            <p:nvPr/>
          </p:nvSpPr>
          <p:spPr>
            <a:xfrm>
              <a:off x="7202520" y="2660760"/>
              <a:ext cx="209520" cy="27936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7211880" y="3122640"/>
              <a:ext cx="209520" cy="2790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9e8d"/>
                </a:solidFill>
                <a:latin typeface="Calibri"/>
              </a:endParaRPr>
            </a:p>
          </p:txBody>
        </p:sp>
      </p:grpSp>
      <p:sp>
        <p:nvSpPr>
          <p:cNvPr id="187" name="Rectangle 1"/>
          <p:cNvSpPr/>
          <p:nvPr/>
        </p:nvSpPr>
        <p:spPr>
          <a:xfrm>
            <a:off x="6040440" y="2260440"/>
            <a:ext cx="2060640" cy="2498760"/>
          </a:xfrm>
          <a:prstGeom prst="rect">
            <a:avLst/>
          </a:prstGeom>
          <a:noFill/>
          <a:ln w="34920">
            <a:solidFill>
              <a:srgbClr val="009e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8" name="ZoneTexte 2"/>
          <p:cNvSpPr/>
          <p:nvPr/>
        </p:nvSpPr>
        <p:spPr>
          <a:xfrm>
            <a:off x="8264520" y="2149560"/>
            <a:ext cx="11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   </a:t>
            </a: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Brique 1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9e8d"/>
                </a:solidFill>
                <a:latin typeface="Calibri"/>
              </a:rPr>
              <a:t>2025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126120" y="3780000"/>
            <a:ext cx="1879560" cy="407880"/>
          </a:xfrm>
          <a:prstGeom prst="rect">
            <a:avLst/>
          </a:prstGeom>
          <a:solidFill>
            <a:srgbClr val="7e1465"/>
          </a:solidFill>
          <a:ln w="25560">
            <a:solidFill>
              <a:srgbClr val="5b0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Initiative 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cp:lastPrinted>2015-03-06T07:34:55Z</cp:lastPrinted>
  <dcterms:modified xsi:type="dcterms:W3CDTF">2016-05-23T16:50:43Z</dcterms:modified>
  <cp:revision>503</cp:revision>
  <dc:subject/>
  <dc:title>Présentation PowerPoint</dc:title>
</cp:coreProperties>
</file>