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C2846-3F0D-4BAD-A42C-317C95B83E9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move the slide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1E9D8-1CB5-472B-A30A-10B098E760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1BF41-A039-4994-8D4D-29E939BB202B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489F6-BC0C-4CB3-AECB-DF513BE56483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538FC-1CE2-4580-A7C6-D4A52984C62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A0E3D-F9B0-4DFA-9294-59E3689DFF5E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AB381-8503-45AC-B0CD-8E9B43769BE4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AB96F-DCE2-4316-A29D-8C1DB52EA067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A7756-6471-4000-80DD-20E82C6E70FA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7BC72-87A7-4088-AD8B-E31EE6D3879F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31BCD-16C6-4765-BFE3-95560955608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ACE4F-0CEE-4A8B-9D67-E60B3A102640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CD6B4-EA68-4165-921B-6E8EC778D166}" type="slidenum">
              <a:rPr b="0" lang="fr-FR" sz="1200" spc="-1" strike="noStrike">
                <a:solidFill>
                  <a:srgbClr val="009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D96A-5FAC-40BA-B3D5-605E63382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AF76-4FA9-478C-996F-A3030EECED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45AE-865B-4BCA-8862-9920CCAE1D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CA82-6A0C-4217-92BE-2B64A4CC6A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5CFA-6FF9-4302-A9C8-EB333B2CE0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C5E6-504C-46DB-8C80-9E7433BD47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A115-77B4-45C9-913F-D97CAC192A3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0581-A3FE-4185-942A-F95BF1504B5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932C-2B99-441F-9284-CF6FC1C3A2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7AF5-0746-4747-A18E-E4E1B42DCD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7831-DCB3-4401-8729-3639713D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CD9C-F012-4CC4-85B2-965C537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12B0-9398-49AF-8B91-CBB979C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D415-6FFE-4A10-B9F2-140DF18C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52E-7536-421E-80E3-00C257C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B61-5104-4FE8-BBFD-88CB597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F057-5E0E-40C1-B882-9B32EB2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C0D-799F-46D3-9985-892F559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7471-AECE-4EE0-A48E-B22ED49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53AE-931B-4268-ADBA-266A10A7D2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4664-9B23-47D1-B770-738FD6C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09D-C63C-4CD9-B72F-E994443B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3C9C-CB71-4F6F-9468-DE152ADB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8F73-861F-4508-B01A-465175BBD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AF65-797F-4824-BB96-72C5DA52C1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3310-890F-4E84-8E86-B753E72718C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30B6-F3C3-4145-9B89-3B5DD49A840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5DE95-8AB3-4150-A7EB-BAF90D710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81CD-689F-42A4-943C-3099077F4F7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A6761-27EC-4FDD-A7C1-BF8BAD75AE9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AC375-ACF2-46EC-89B2-246E4F46ED7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848BB-4598-4287-B670-37450B3C1D3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0E24A-AC46-422E-9C61-FD6F3AF07E4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4519E-BBAF-455D-9740-D0E0B4BED4A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37974-115E-4D00-81C7-7FE5BD96EEF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96467-1F10-4D6F-A01E-0A0C9D1C47E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F52FA-72BB-4A61-A5CC-F9FD5CF0628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8EA45-48F3-4148-95CE-3F49911003E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EAF02-CC0D-4A79-B077-99C03892C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575E-F55A-4DAA-BE4B-A4EE5835263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8E768-7403-4F4E-A71C-1B5A9697FBE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9178-520B-4345-AC72-E51E468A28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79E25-F88C-4F89-888A-BF84931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B4A95-774E-4C73-AD3E-0683FB7D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666F1-899C-4949-8DAC-AF52AB4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4CE8B-DA2D-4C89-B6AC-8E248756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AE0E2-B3FB-4BDA-AB49-BE3B884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C7142-5A1D-41D8-B3E1-F1CAC38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5EEDF-DD4E-46C0-892E-D7C0B2E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F3E36-02A0-40B3-8872-04459C9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9B289-7ECA-40D1-B74B-C4027005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979A1-754C-4942-A938-628FDC0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13EE9-7EAE-46C7-9E47-6A5C91DE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495F3-BAFF-456D-8CC9-DC6CB270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1E5E-EED4-414A-BF3E-B2D666F25D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D8CD-BC41-44A5-8085-7A92DD7F86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4965-1219-4EED-9D4D-F24983AFEC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7CB-4683-45CE-9522-072F96EC43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058-C3DD-46F6-A30B-9A193F34E5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9E6-747E-41AC-9087-E87EB3D3BB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F59-A7A2-43D2-B8DD-C52ADAD1D1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16-29A1-49D1-8FA7-72F371DB4C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620-D5B4-4625-A1FB-D5F604821C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BEB-45E5-4794-8E42-9863696DAB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47C-BA99-4008-A582-E9A2086621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015-25F6-46EC-878C-EA3F3AF4A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EC79-5953-4952-B576-0860E93662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58C-39F7-479E-AE70-196DAA2B106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078-6891-4CE2-B473-FAB364B42D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3EB-A204-42FE-B7CB-011D012E0E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8012-0BA4-414D-B0BB-0FF1E92ED8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AA8E-66FA-4274-BD75-99BE273B07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357-7778-48E3-B708-4C83CE6133C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582-A2AA-47F4-96C7-C510A7B52CC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216-10D1-44DB-A3E6-A3279FF29570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8C5-D058-4472-BB31-697E142C3C7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C245-F441-4B41-B9CB-7A82DAC95AB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8DC6-BB1B-4BCB-8A64-7879A323950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233-BE58-4C2F-89C7-1F9CDA5D27DA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8B0-A55F-41B3-BCC3-88669FE7BCA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530-8F84-486B-AE29-8B58154C735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6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A9796-DC54-4872-A0F3-E18A1CC4BAE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E257-CE4A-44B5-901C-04FCA4AD2EAC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638" name="Image 9" descr=""/>
          <p:cNvPicPr/>
          <p:nvPr/>
        </p:nvPicPr>
        <p:blipFill>
          <a:blip r:embed="rId2"/>
          <a:srcRect l="2629" t="7171" r="5077" b="6948"/>
          <a:stretch/>
        </p:blipFill>
        <p:spPr>
          <a:xfrm>
            <a:off x="9085320" y="6415200"/>
            <a:ext cx="650880" cy="282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2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498A-1B2B-410C-82D1-041463F408C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524-18F5-4A63-9EF7-3DF147D09FD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1EA-9540-4967-A307-F325708C14F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1A33-CCF7-485C-9E12-32CF999B90F2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CC8-9BF4-4457-89AE-6C928CBA2E5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7" name="Oval 2"/>
          <p:cNvSpPr/>
          <p:nvPr/>
        </p:nvSpPr>
        <p:spPr>
          <a:xfrm>
            <a:off x="-509760" y="-1790640"/>
            <a:ext cx="9369720" cy="864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7FF-3234-438D-B679-B41A734AD98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7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C4DB9-EBB8-4205-9CE6-C37FB0105A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C25-FC20-4AF6-88FB-69303DD66173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91F-5BA1-4F0B-8753-A353E42B9D8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2"/>
          <a:stretch/>
        </p:blipFill>
        <p:spPr>
          <a:xfrm>
            <a:off x="8186760" y="6184800"/>
            <a:ext cx="976320" cy="33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3"/>
          <a:stretch/>
        </p:blipFill>
        <p:spPr>
          <a:xfrm>
            <a:off x="480960" y="4046400"/>
            <a:ext cx="1031760" cy="300204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DFB6-60B9-4856-8FA7-4F7C690B6A4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84B-5706-402E-AB74-F075E713FC44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793-4A2C-41F4-91FC-C65232E7890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F17-03F1-4648-B91E-85CB619CC9E1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C35-565E-4760-83EE-0B972AD6F27B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763-8D1F-42A2-AFA6-75480D4A64F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BB96-667E-4508-A46B-E0166273517E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024760" y="6426360"/>
            <a:ext cx="976320" cy="33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110-5FFD-4978-A7E2-2C5A18E7A12D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82" name="Picture 3" descr="cid:part1.08000801.07030305@rct-territoires.com"/>
          <p:cNvPicPr/>
          <p:nvPr/>
        </p:nvPicPr>
        <p:blipFill>
          <a:blip r:embed="rId3"/>
          <a:stretch/>
        </p:blipFill>
        <p:spPr>
          <a:xfrm>
            <a:off x="9169560" y="6426360"/>
            <a:ext cx="736560" cy="330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0" y="6400800"/>
            <a:ext cx="10153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4AA-C942-4868-A898-F998C0804610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10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9e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46C30-F347-44E6-9C61-6EC95927841F}" type="slidenum">
              <a:rPr b="0" lang="fr-FR" sz="2400" spc="-1" strike="noStrike">
                <a:solidFill>
                  <a:srgbClr val="009e8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FE4B-F726-4D80-B272-5EE946315F9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2796-1536-4886-8846-066231FD8939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E64-C8F2-4DD6-8B1B-C5402587E965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1" name="Oval 2"/>
          <p:cNvSpPr/>
          <p:nvPr/>
        </p:nvSpPr>
        <p:spPr>
          <a:xfrm>
            <a:off x="-509760" y="-1790640"/>
            <a:ext cx="9369720" cy="864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4FD0-5382-45B3-9094-98A61415D778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3"/>
          </p:nvPr>
        </p:nvSpPr>
        <p:spPr>
          <a:xfrm>
            <a:off x="340920" y="6492600"/>
            <a:ext cx="133560" cy="1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D90F3-3959-4C2A-989F-FADCA58C3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2891-231C-431E-BB23-344D5B4B761F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B7E-C735-4161-9F30-B60574F53667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8186760" y="6184800"/>
            <a:ext cx="976320" cy="330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480960" y="4046400"/>
            <a:ext cx="1031760" cy="3002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6"/>
          <p:cNvSpPr/>
          <p:nvPr/>
        </p:nvSpPr>
        <p:spPr>
          <a:xfrm>
            <a:off x="341280" y="6492960"/>
            <a:ext cx="133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169-60B3-46B1-9D2D-9E697F4715BE}" type="slidenum">
              <a:rPr b="0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Click to edit the outline text format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1" marL="343080" indent="-343080">
              <a:lnSpc>
                <a:spcPct val="95000"/>
              </a:lnSpc>
              <a:spcBef>
                <a:spcPts val="700"/>
              </a:spcBef>
              <a:buClr>
                <a:srgbClr val="cf1e75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con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2"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ahoma (corps)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Third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3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Tahoma (corps)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our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4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Fif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5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ix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lvl="6" marL="343080" indent="-343080">
              <a:lnSpc>
                <a:spcPct val="95000"/>
              </a:lnSpc>
              <a:spcBef>
                <a:spcPts val="700"/>
              </a:spcBef>
              <a:buClr>
                <a:srgbClr val="009e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1465"/>
                </a:solidFill>
                <a:latin typeface="Tahoma"/>
              </a:rPr>
              <a:t>Seventh Outline Level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9e8d"/>
                </a:solidFill>
                <a:latin typeface="Tahoma"/>
              </a:rPr>
              <a:t>Click to edit the title text form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Sous-titre 2"/>
          <p:cNvSpPr/>
          <p:nvPr/>
        </p:nvSpPr>
        <p:spPr>
          <a:xfrm>
            <a:off x="1589040" y="2951280"/>
            <a:ext cx="6486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-119520" y="2882520"/>
            <a:ext cx="1024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Atelier 1 : </a:t>
            </a:r>
            <a:br>
              <a:rPr sz="4000"/>
            </a:br>
            <a:r>
              <a:rPr b="1" lang="fr-FR" sz="4000" spc="-1" strike="noStrike">
                <a:solidFill>
                  <a:srgbClr val="7e1465"/>
                </a:solidFill>
                <a:latin typeface="Tahoma"/>
                <a:ea typeface="ヒラギノ角ゴ ProN W3"/>
              </a:rPr>
              <a:t>Quels futurs possibles ?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9e8d"/>
                </a:solidFill>
                <a:latin typeface="Tahoma"/>
                <a:ea typeface="ヒラギノ角ゴ ProN W3"/>
              </a:rPr>
              <a:t>Date de l’atelier</a:t>
            </a:r>
            <a:br>
              <a:rPr sz="4000"/>
            </a:b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5 Ateliers prospectif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pic>
        <p:nvPicPr>
          <p:cNvPr id="1233" name="Diagramme 33" descr=""/>
          <p:cNvPicPr/>
          <p:nvPr/>
        </p:nvPicPr>
        <p:blipFill>
          <a:blip r:embed="rId1"/>
          <a:stretch/>
        </p:blipFill>
        <p:spPr>
          <a:xfrm>
            <a:off x="1609560" y="1663560"/>
            <a:ext cx="7674120" cy="3737160"/>
          </a:xfrm>
          <a:prstGeom prst="rect">
            <a:avLst/>
          </a:prstGeom>
          <a:ln w="0">
            <a:noFill/>
          </a:ln>
        </p:spPr>
      </p:pic>
      <p:sp>
        <p:nvSpPr>
          <p:cNvPr id="1234" name="ZoneTexte 34"/>
          <p:cNvSpPr/>
          <p:nvPr/>
        </p:nvSpPr>
        <p:spPr>
          <a:xfrm>
            <a:off x="235080" y="293364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Objectif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5" name="ZoneTexte 35"/>
          <p:cNvSpPr/>
          <p:nvPr/>
        </p:nvSpPr>
        <p:spPr>
          <a:xfrm>
            <a:off x="235080" y="3813120"/>
            <a:ext cx="10760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Supports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36" name="ZoneTexte 36"/>
          <p:cNvSpPr/>
          <p:nvPr/>
        </p:nvSpPr>
        <p:spPr>
          <a:xfrm>
            <a:off x="163440" y="4702320"/>
            <a:ext cx="1147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Calibri"/>
                <a:ea typeface="ヒラギノ角ゴ ProN W3"/>
              </a:rPr>
              <a:t>Animation</a:t>
            </a:r>
            <a:endParaRPr b="0" lang="en-US" sz="16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37" name="Connecteur droit avec flèche 37"/>
          <p:cNvCxnSpPr/>
          <p:nvPr/>
        </p:nvCxnSpPr>
        <p:spPr>
          <a:xfrm>
            <a:off x="1606320" y="1547280"/>
            <a:ext cx="4594680" cy="108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8" name="Connecteur droit avec flèche 38"/>
          <p:cNvCxnSpPr/>
          <p:nvPr/>
        </p:nvCxnSpPr>
        <p:spPr>
          <a:xfrm flipV="1">
            <a:off x="6338520" y="1539360"/>
            <a:ext cx="2948760" cy="8640"/>
          </a:xfrm>
          <a:prstGeom prst="straightConnector1">
            <a:avLst/>
          </a:prstGeom>
          <a:ln w="25560">
            <a:solidFill>
              <a:srgbClr val="009e8d"/>
            </a:solidFill>
            <a:miter/>
            <a:headEnd len="med" type="arrow" w="med"/>
            <a:tailEnd len="med" type="arrow" w="med"/>
          </a:ln>
        </p:spPr>
      </p:cxnSp>
      <p:sp>
        <p:nvSpPr>
          <p:cNvPr id="1239" name="ZoneTexte 14"/>
          <p:cNvSpPr/>
          <p:nvPr/>
        </p:nvSpPr>
        <p:spPr>
          <a:xfrm>
            <a:off x="293688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  <a:ea typeface="MS PGothic"/>
              </a:rPr>
              <a:t>Prospective exploratoir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0" name="ZoneTexte 20"/>
          <p:cNvSpPr/>
          <p:nvPr/>
        </p:nvSpPr>
        <p:spPr>
          <a:xfrm>
            <a:off x="6842160" y="119844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7f7f7f"/>
                </a:solidFill>
                <a:latin typeface="Calibri"/>
                <a:ea typeface="MS PGothic"/>
              </a:rPr>
              <a:t>Prospective normative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1" name="Flèche courbée vers le haut 41"/>
          <p:cNvSpPr/>
          <p:nvPr/>
        </p:nvSpPr>
        <p:spPr>
          <a:xfrm>
            <a:off x="6934320" y="5403960"/>
            <a:ext cx="1747800" cy="409320"/>
          </a:xfrm>
          <a:custGeom>
            <a:avLst/>
            <a:gdLst>
              <a:gd name="textAreaLeft" fmla="*/ 398520 w 1747800"/>
              <a:gd name="textAreaRight" fmla="*/ 1298160 w 1747800"/>
              <a:gd name="textAreaTop" fmla="*/ 54720 h 409320"/>
              <a:gd name="textAreaBottom" fmla="*/ 35460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-3629030"/>
                <a:lnTo>
                  <a:pt x="21287" y="5400"/>
                </a:lnTo>
                <a:lnTo>
                  <a:pt x="20335" y="0"/>
                </a:lnTo>
                <a:lnTo>
                  <a:pt x="18756" y="5400"/>
                </a:lnTo>
                <a:lnTo>
                  <a:pt x="19389" y="5400"/>
                </a:lnTo>
                <a:arcTo wR="9851" hR="21600" stAng="1770970" swAng="3528186"/>
                <a:lnTo>
                  <a:pt x="10484" y="21555"/>
                </a:lnTo>
                <a:arcTo wR="9851" hR="21600" stAng="5500845" swAng="5299155"/>
                <a:close/>
              </a:path>
              <a:path fill="darkenLess" w="21600" h="21600">
                <a:moveTo>
                  <a:pt x="0" y="0"/>
                </a:moveTo>
                <a:arcTo wR="9851" hR="21600" stAng="10800000" swAng="-5400000"/>
                <a:lnTo>
                  <a:pt x="11116" y="21600"/>
                </a:lnTo>
                <a:arcTo wR="9851" hR="21600" stAng="5400000" swAng="100845"/>
                <a:lnTo>
                  <a:pt x="10484" y="21555"/>
                </a:lnTo>
                <a:arcTo wR="9851" hR="21600" stAng="5500845" swAng="5299155"/>
                <a:close/>
              </a:path>
            </a:pathLst>
          </a:custGeom>
          <a:solidFill>
            <a:srgbClr val="009e8d"/>
          </a:solidFill>
          <a:ln w="9360">
            <a:solidFill>
              <a:srgbClr val="009e8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42" name="ZoneTexte 42"/>
          <p:cNvSpPr/>
          <p:nvPr/>
        </p:nvSpPr>
        <p:spPr>
          <a:xfrm>
            <a:off x="7201080" y="5881680"/>
            <a:ext cx="107604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e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f7f7f"/>
                </a:solidFill>
                <a:latin typeface="Calibri"/>
                <a:ea typeface="MS PGothic"/>
              </a:rPr>
              <a:t>Réécriture des scénarios par l’équipe</a:t>
            </a:r>
            <a:endParaRPr b="0" lang="en-US" sz="12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livrable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3. Immersion en 2025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d"/>
                </a:solidFill>
                <a:latin typeface="Tahoma"/>
              </a:rPr>
              <a:t>Les 4 mondes du futur</a:t>
            </a:r>
            <a:endParaRPr b="1" lang="en-US" sz="40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95000" y="1600200"/>
            <a:ext cx="89154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Comment ces 4 mondes ont-ils été définis ?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que monde incarne le prolongement d’une hypothèse prédéfinie par nos soins sur l’évolution du territoire à 2025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hypothèses d’évolution = au cœur de nombreux travaux prospectifs (La Fonda, IAU, 4D, ETD, Futuribles…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ésentés sous-forme de posters A1 imagés 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Le rôle de ces mondes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mmerger les participants dans un vaste champ de possibl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et l’imagination par l’image et les symbo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Amener à une mise en situation rapide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Quatre mondes contrastés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1550880" y="1782720"/>
          <a:ext cx="6604200" cy="4022640"/>
        </p:xfrm>
        <a:graphic>
          <a:graphicData uri="http://schemas.openxmlformats.org/drawingml/2006/table">
            <a:tbl>
              <a:tblPr/>
              <a:tblGrid>
                <a:gridCol w="3302280"/>
                <a:gridCol w="3301920"/>
              </a:tblGrid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u Statu qu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oursuite des déséquilibres, absence de régulation, accroissement des inégalités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Catastroph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ggravation de la situation, repli autoritaire et sécuritaire, multiplication des crises, conflits soci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a Techno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novations technologiques et organisationelles, civilisation numérique, réseaux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7e1465"/>
                          </a:solidFill>
                          <a:latin typeface="Arial"/>
                          <a:ea typeface="ヒラギノ角ゴ ProN W3"/>
                        </a:rPr>
                        <a:t>Le monde de l’Alternative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étamorphose du système de valeurs, société de la responsabilité, altruisme généralisé…</a:t>
                      </a: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e8d"/>
                      </a:solidFill>
                    </a:lnL>
                    <a:lnR w="18720">
                      <a:solidFill>
                        <a:srgbClr val="009e8d"/>
                      </a:solidFill>
                    </a:lnR>
                    <a:lnT w="18720">
                      <a:solidFill>
                        <a:srgbClr val="009e8d"/>
                      </a:solidFill>
                    </a:lnT>
                    <a:lnB w="18720">
                      <a:solidFill>
                        <a:srgbClr val="009e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6368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4. Travail en group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L</a:t>
            </a:r>
            <a:r>
              <a:rPr b="1" lang="ja-JP" sz="33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3300" spc="-1" strike="noStrike">
                <a:solidFill>
                  <a:srgbClr val="009e8d"/>
                </a:solidFill>
                <a:latin typeface="Tahoma"/>
              </a:rPr>
              <a:t>Atelier 1 – Quels futurs possibles ?</a:t>
            </a:r>
            <a:endParaRPr b="1" lang="en-US" sz="33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Arial"/>
              </a:rPr>
              <a:t>Objectif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 :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voquer un décalage dans l’appréhension du futur du territoire en 2025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Identifier les facteurs territoriaux structurants pour l’environnement territorial et la gouvernance locale (= les variables clés)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Décrire un vaste champ des possible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7e1465"/>
                </a:solidFill>
                <a:uFillTx/>
                <a:latin typeface="Arial"/>
                <a:ea typeface="ヒラギノ角ゴ ProN W3"/>
              </a:rPr>
              <a:t>Supports</a:t>
            </a: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ヒラギノ角ゴ ProN W3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4 mondes du futur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Résultats issus de la phase d’analyse des démarches contributives faite par l’ARENE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Tableau des tendances lourdes et signaux faibles « Environnement territorial »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2" marL="271440" indent="-2714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Tableau des tendances lourdes et signaux faibles « Gouvernance locale »</a:t>
            </a:r>
            <a:endParaRPr b="1" lang="en-US" sz="1400" spc="-1" strike="noStrike">
              <a:solidFill>
                <a:srgbClr val="000000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2 fiches à renseigner « Environnement territorial » et « Gouvernance locale »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f1e75"/>
              </a:buClr>
              <a:buFont typeface="Symbol" charset="2"/>
              <a:buChar char="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>
                <a:solidFill>
                  <a:srgbClr val="cf1e75"/>
                </a:solidFill>
                <a:latin typeface="Arial"/>
                <a:ea typeface="MS PGothic"/>
              </a:rPr>
              <a:t>Un travail d’organisation et d’analyse des tendances au sein de systèmes cohérents prédéfinis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2501640"/>
            <a:ext cx="8915400" cy="114300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5. Conclus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2433240" y="2199960"/>
            <a:ext cx="480060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Merci à tous et toutes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f1e75"/>
                </a:solidFill>
                <a:latin typeface="Tahoma"/>
              </a:rPr>
              <a:t>À demain !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Déroulé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1974960" y="1317600"/>
          <a:ext cx="7172280" cy="4780080"/>
        </p:xfrm>
        <a:graphic>
          <a:graphicData uri="http://schemas.openxmlformats.org/drawingml/2006/table">
            <a:tbl>
              <a:tblPr/>
              <a:tblGrid>
                <a:gridCol w="1347840"/>
                <a:gridCol w="4363920"/>
                <a:gridCol w="1460520"/>
              </a:tblGrid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Duré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itulé de la séquenc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Interven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7e1465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3h45-14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ccueil des participants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e8d"/>
                      </a:solidFill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00-14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our de table des participant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4h15-15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ntroduction en plénière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u projet de prospective et des résultats de la phase 1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de la phase 2, de la méthode de travail et des attendus des ateliers 1 et 2 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Immersion en 2025 : présentation des 4 mondes possibles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épartition en groupe et consignes de travail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5h00-16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4 sous-groupes : 1 groupe par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ésignation de deux rapporteurs par groupe et du garant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aractérisation de l’environnement territorial 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00-16h1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PAUS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6h15-17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Travail en 4 sous-groupes : 1 groupe par mond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aractérisation de la gouvernance local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marL="20520"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paration de la synthèse de restitution en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00-17h45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Restitution des travaux en sous groupes en séance plénièr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Présentation par les rapporteurs des résultats de chaque sous-groupe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Echanges et débats avec les autres groupes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0e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Arial"/>
                          <a:ea typeface="ヒラギノ角ゴ ProN W3"/>
                        </a:rPr>
                        <a:t>17h45-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Conclusion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009e8d"/>
                          </a:solidFill>
                          <a:latin typeface="Helvetica Neue"/>
                        </a:rPr>
                        <a:t>18h00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900" spc="-1" strike="noStrike">
                          <a:solidFill>
                            <a:srgbClr val="221e1f"/>
                          </a:solidFill>
                          <a:latin typeface="Arial"/>
                        </a:rPr>
                        <a:t>Fin de l’atelier</a:t>
                      </a:r>
                      <a:endParaRPr b="0" lang="en-US" sz="9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9e8d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e8d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9e8d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Introduction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Ordre du jour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920520" y="2125800"/>
            <a:ext cx="85071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u projet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Présentation de la méthodologie de travail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Immersion en 2025 : présentation des 4 mondes du futur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7e1465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Répartition en 4 sous-groupe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1. Le projet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Un constat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495000" y="1600200"/>
            <a:ext cx="8915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" spc="-1" strike="noStrike">
              <a:solidFill>
                <a:srgbClr val="7e1465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Tahoma"/>
              </a:rPr>
              <a:t>La société civile (acteurs socio-professionnels, citoyens, associations) est insuffisamment associée aux décisions politiques, et le passage à la pratique de l’action collaborative reste un sujet difficile à mettre en place par manque d’habitude et de savoir-faire des décideurs.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es enjeux locaux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e1465"/>
                </a:solidFill>
                <a:latin typeface="Tahoma"/>
              </a:rPr>
              <a:t>A compléter</a:t>
            </a:r>
            <a:endParaRPr b="1" lang="en-US" sz="3000" spc="-1" strike="noStrike">
              <a:solidFill>
                <a:srgbClr val="7e1465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000" y="2502000"/>
            <a:ext cx="8915400" cy="1319040"/>
          </a:xfrm>
          <a:prstGeom prst="rect">
            <a:avLst/>
          </a:prstGeom>
          <a:noFill/>
          <a:ln w="19080">
            <a:solidFill>
              <a:srgbClr val="7e14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 </a:t>
            </a:r>
            <a:r>
              <a:rPr b="1" lang="fr-FR" sz="3700" spc="-1" strike="noStrike">
                <a:solidFill>
                  <a:srgbClr val="009e8d"/>
                </a:solidFill>
                <a:latin typeface="Tahoma"/>
              </a:rPr>
              <a:t>2. La prospective exploratoire</a:t>
            </a:r>
            <a:endParaRPr b="1" lang="en-US" sz="3700" spc="-1" strike="noStrike">
              <a:solidFill>
                <a:srgbClr val="009e8d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La méthode d</a:t>
            </a:r>
            <a:r>
              <a:rPr b="1" lang="ja-JP" sz="4100" spc="-1" strike="noStrike">
                <a:solidFill>
                  <a:srgbClr val="009e8d"/>
                </a:solidFill>
                <a:latin typeface="Tahoma"/>
              </a:rPr>
              <a:t>’</a:t>
            </a:r>
            <a:r>
              <a:rPr b="1" lang="fr-FR" sz="4100" spc="-1" strike="noStrike">
                <a:solidFill>
                  <a:srgbClr val="009e8d"/>
                </a:solidFill>
                <a:latin typeface="Tahoma"/>
              </a:rPr>
              <a:t>animation</a:t>
            </a:r>
            <a:endParaRPr b="1" lang="en-US" sz="4100" spc="-1" strike="noStrike">
              <a:solidFill>
                <a:srgbClr val="009e8d"/>
              </a:solidFill>
              <a:latin typeface="Tahoma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566280" y="1417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7e1465"/>
                </a:solidFill>
                <a:latin typeface="Arial"/>
                <a:ea typeface="Arial"/>
              </a:rPr>
              <a:t>Animation de 5 Ateliers prospectifs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bjecti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imaginer de nouvelles pratiques collaboratives entre société civile, acteurs 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ahoma (corps)"/>
              </a:rPr>
              <a:t>économiques et collectivités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oye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 : </a:t>
            </a:r>
            <a:endParaRPr b="1" lang="en-US" sz="1600" spc="-1" strike="noStrike">
              <a:solidFill>
                <a:srgbClr val="cf1e75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Fertilisation croisé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: réunir des acteurs d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horizons différents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ospective et mise en situ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amener à un décalage par rapport au quotidien / provoquer 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nnovation /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susciter la créativité </a:t>
            </a: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lvl="2" marL="12002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 (corps)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7e146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800" spc="-1" strike="noStrike">
                <a:solidFill>
                  <a:srgbClr val="7e1465"/>
                </a:solidFill>
                <a:latin typeface="Arial"/>
                <a:ea typeface="Arial"/>
              </a:rPr>
              <a:t>Progression des travaux</a:t>
            </a: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  <a:p>
            <a:pPr marL="285840" indent="-285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7e1465"/>
              </a:solidFill>
              <a:latin typeface="Tahoma"/>
            </a:endParaRPr>
          </a:p>
        </p:txBody>
      </p:sp>
      <p:pic>
        <p:nvPicPr>
          <p:cNvPr id="1215" name="Diagramme 3" descr=""/>
          <p:cNvPicPr/>
          <p:nvPr/>
        </p:nvPicPr>
        <p:blipFill>
          <a:blip r:embed="rId1"/>
          <a:stretch/>
        </p:blipFill>
        <p:spPr>
          <a:xfrm>
            <a:off x="285840" y="4206960"/>
            <a:ext cx="9358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1216" name="Connecteur droit avec flèche 4"/>
          <p:cNvCxnSpPr/>
          <p:nvPr/>
        </p:nvCxnSpPr>
        <p:spPr>
          <a:xfrm>
            <a:off x="1310760" y="5779800"/>
            <a:ext cx="2001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7" name="Connecteur droit avec flèche 5"/>
          <p:cNvCxnSpPr/>
          <p:nvPr/>
        </p:nvCxnSpPr>
        <p:spPr>
          <a:xfrm>
            <a:off x="3311280" y="5779800"/>
            <a:ext cx="185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8" name="Connecteur droit avec flèche 6"/>
          <p:cNvCxnSpPr/>
          <p:nvPr/>
        </p:nvCxnSpPr>
        <p:spPr>
          <a:xfrm>
            <a:off x="5168520" y="5779800"/>
            <a:ext cx="194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9" name="Connecteur droit avec flèche 7"/>
          <p:cNvCxnSpPr/>
          <p:nvPr/>
        </p:nvCxnSpPr>
        <p:spPr>
          <a:xfrm>
            <a:off x="8305560" y="5779800"/>
            <a:ext cx="1184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20" name="Connecteur droit 9"/>
          <p:cNvSpPr/>
          <p:nvPr/>
        </p:nvSpPr>
        <p:spPr>
          <a:xfrm flipV="1">
            <a:off x="13240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1" name="Connecteur droit 10"/>
          <p:cNvSpPr/>
          <p:nvPr/>
        </p:nvSpPr>
        <p:spPr>
          <a:xfrm flipV="1">
            <a:off x="331164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2" name="Connecteur droit 11"/>
          <p:cNvSpPr/>
          <p:nvPr/>
        </p:nvSpPr>
        <p:spPr>
          <a:xfrm flipV="1">
            <a:off x="516888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3" name="Connecteur droit 12"/>
          <p:cNvSpPr/>
          <p:nvPr/>
        </p:nvSpPr>
        <p:spPr>
          <a:xfrm flipV="1">
            <a:off x="7108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4" name="Connecteur droit 13"/>
          <p:cNvSpPr/>
          <p:nvPr/>
        </p:nvSpPr>
        <p:spPr>
          <a:xfrm flipV="1">
            <a:off x="8305920" y="4562640"/>
            <a:ext cx="0" cy="1217520"/>
          </a:xfrm>
          <a:prstGeom prst="line">
            <a:avLst/>
          </a:prstGeom>
          <a:ln w="25560">
            <a:solidFill>
              <a:srgbClr val="009e8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5" name="ZoneTexte 7"/>
          <p:cNvSpPr/>
          <p:nvPr/>
        </p:nvSpPr>
        <p:spPr>
          <a:xfrm>
            <a:off x="63360" y="585144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1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6" name="ZoneTexte 8"/>
          <p:cNvSpPr/>
          <p:nvPr/>
        </p:nvSpPr>
        <p:spPr>
          <a:xfrm>
            <a:off x="1724040" y="585144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3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sp>
        <p:nvSpPr>
          <p:cNvPr id="1227" name="ZoneTexte 36"/>
          <p:cNvSpPr/>
          <p:nvPr/>
        </p:nvSpPr>
        <p:spPr>
          <a:xfrm>
            <a:off x="3578400" y="5851440"/>
            <a:ext cx="11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5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28" name="Connecteur droit avec flèche 18"/>
          <p:cNvCxnSpPr/>
          <p:nvPr/>
        </p:nvCxnSpPr>
        <p:spPr>
          <a:xfrm>
            <a:off x="288720" y="5779800"/>
            <a:ext cx="1022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29" name="ZoneTexte 37"/>
          <p:cNvSpPr/>
          <p:nvPr/>
        </p:nvSpPr>
        <p:spPr>
          <a:xfrm>
            <a:off x="5446800" y="585144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  <p:cxnSp>
        <p:nvCxnSpPr>
          <p:cNvPr id="1230" name="Connecteur droit avec flèche 20"/>
          <p:cNvCxnSpPr/>
          <p:nvPr/>
        </p:nvCxnSpPr>
        <p:spPr>
          <a:xfrm>
            <a:off x="7071840" y="5779800"/>
            <a:ext cx="1234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31" name="ZoneTexte 37"/>
          <p:cNvSpPr/>
          <p:nvPr/>
        </p:nvSpPr>
        <p:spPr>
          <a:xfrm>
            <a:off x="7040520" y="58453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  <a:ea typeface="MS PGothic"/>
              </a:rPr>
              <a:t>Mois 7</a:t>
            </a:r>
            <a:endParaRPr b="0" lang="en-US" sz="1400" spc="-1" strike="noStrike">
              <a:solidFill>
                <a:srgbClr val="009e8d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9:35:51Z</dcterms:created>
  <dc:creator>Cécile Maupeu</dc:creator>
  <dc:description/>
  <dc:language>en-US</dc:language>
  <cp:lastModifiedBy>Louise VAISMAN</cp:lastModifiedBy>
  <dcterms:modified xsi:type="dcterms:W3CDTF">2016-05-20T15:45:14Z</dcterms:modified>
  <cp:revision>327</cp:revision>
  <dc:subject/>
  <dc:title>Présentation PowerPoint</dc:title>
</cp:coreProperties>
</file>