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9059B-94AD-4827-8667-7257D26212E4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move the slide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250D8-A8B5-46CA-8AEE-5153F51E2A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B17CC-9268-42DF-B268-6986C9A44498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AF1D6-1D95-47E4-9A26-FC221D3BAA7B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40D64-EB9C-4658-9EC1-4E4E37A1934E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53C53-D0C3-4FAC-8C67-FE2DF754CE6A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1E895-600F-4E44-881F-A8E1C8F26DBE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E7784-7634-4887-A509-CCB7DD5A1B00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A3EB-8885-48C5-9A1C-A5A5FD375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F2AE-8FDA-472B-87EA-BD776B12F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F5F2-C01F-43B2-850B-936C3907F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25F9-73EE-49DE-B432-A6EFCB17F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2987-E9E1-4F49-BE15-529EFBF0A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9041F-8DA7-48CD-8048-A3E46004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3C8C4-CA62-4CDD-BEE9-383F0AC8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B655D-7101-41F4-9CCB-56E4A841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56CAE-739D-4BA8-A2F6-2D971831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A689A-6E22-4C21-8950-084CBF91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3AE7-B24D-4D1C-A890-CF77F6599E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F877D-2ACD-4A70-877A-67B21591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AE0BB-E89B-4CED-A444-471DD491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29BAF-0625-447A-BD18-361DE64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CCF61-F6B8-48CA-858C-DCCDF4C9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FC045-173B-4998-993F-B0656F28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CD0C7-D426-4807-A53C-37FBE058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30630-C913-4D41-8E33-B3441E6E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F682-07A7-4518-BFBD-80F1DE0FF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0AE6-D6FF-411E-8999-AFBD15DF4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76BB-763E-40BD-97FF-98E6AF775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A26C-BD61-42AC-B820-C46F55956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850E-3C1A-4E49-8875-0BF8EA6D5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CB53-580F-4CD3-AA7C-92176E043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7A7E-A133-498B-BAB5-5916AC98E0EE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6DEC-EB54-4612-B420-76D32DE9F586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42D8-B557-4697-8132-BD98E5AAECF4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D53B-70AB-4832-80BC-CFAA578F9BA2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4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9e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BD0F6-55CA-49E2-8555-CA511B24AA5F}" type="slidenum">
              <a:rPr b="0" lang="fr-FR" sz="2400" spc="-1" strike="noStrike">
                <a:solidFill>
                  <a:srgbClr val="009e8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ous-titre 2"/>
          <p:cNvSpPr/>
          <p:nvPr/>
        </p:nvSpPr>
        <p:spPr>
          <a:xfrm>
            <a:off x="357120" y="2576520"/>
            <a:ext cx="9166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b4988"/>
                </a:solidFill>
                <a:latin typeface="Tahoma"/>
                <a:ea typeface="ヒラギノ角ゴ ProN W3"/>
              </a:rPr>
              <a:t>Atelier 4 : Quels futurs souhaitables ?</a:t>
            </a:r>
            <a:endParaRPr b="0" lang="en-US" sz="3600" spc="-1" strike="noStrike">
              <a:solidFill>
                <a:srgbClr val="009e8d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e8d"/>
                </a:solidFill>
                <a:latin typeface="Tahoma"/>
                <a:ea typeface="ヒラギノ角ゴ ProN W3"/>
              </a:rPr>
              <a:t>Date de l’atelier</a:t>
            </a:r>
            <a:endParaRPr b="0" lang="en-US" sz="36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 prochain rendez-vou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49240" y="1425600"/>
            <a:ext cx="85615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Date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et atelier permettra de définir collectivement une feuille de route et d’identifier les leviers d’actions pour aller vers les scénarios souhaités pour 2025.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433240" y="2997000"/>
            <a:ext cx="4800600" cy="18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Merci à tous et toutes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77880" y="1417680"/>
          <a:ext cx="7174080" cy="4395600"/>
        </p:xfrm>
        <a:graphic>
          <a:graphicData uri="http://schemas.openxmlformats.org/drawingml/2006/table">
            <a:tbl>
              <a:tblPr/>
              <a:tblGrid>
                <a:gridCol w="1347840"/>
                <a:gridCol w="4365720"/>
                <a:gridCol w="1460520"/>
              </a:tblGrid>
              <a:tr h="318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Horai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Intitulé de la séqu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Interven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9h00-9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Accueil – café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124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9h15-9h3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Introduction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ésentation des objectifs et de la méthodologie de travail de l’Atelier 4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9h30-10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Travail en 3 sous-groupes, 1 par type d’acteur :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Temps 1 : Réflexion sur le positionnement des acteur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ésignation de deux rapporteurs par 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osture et actions de l’acteur central du scénario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La vision 2025 qui en résulte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55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0h15-11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Temps 2 : construction du scénario souhaitable 202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éfinition des rôles et places de chaque acteu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éparation de la présentation pour le test de solidité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1h15-11h3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PAUSE CAF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80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1h30-12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Restitution en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ésentation des scénarios élaborés par chaque 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rash test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ébat et échang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2h45-13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nclusion et annonce des prochaines éta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34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3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Fin de l’Ateli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124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Introduct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Ordre du jour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0520" y="2125800"/>
            <a:ext cx="85071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Objectif de l’Atelier 4 et méthode de travail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Répartition en 3 sous-groupes et consignes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6368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1. Objectif de l’Atelier 4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3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Atelier 4 – Quels futurs souhaitables ?</a:t>
            </a:r>
            <a:endParaRPr b="1" lang="en-US" sz="33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5268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Objectif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 :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poser des scénarios souhaités, pour une démocratie contributive au service de la transition écologiqu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Les scénarios sont établis par typologie d’acteurs et font l’objet d’un crash-test (test de solidité)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68560" indent="-2685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Support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3  types d’acteurs :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4" marL="1067040" indent="-260640">
              <a:spcBef>
                <a:spcPts val="300"/>
              </a:spcBef>
              <a:spcAft>
                <a:spcPts val="300"/>
              </a:spcAft>
              <a:buClr>
                <a:srgbClr val="009e8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  <a:ea typeface="MS PGothic"/>
              </a:rPr>
              <a:t>Pouvoirs locaux (collectivités locales – élus et techniciens)</a:t>
            </a:r>
            <a:endParaRPr b="1" lang="en-US" sz="1400" spc="-1" strike="noStrike">
              <a:solidFill>
                <a:srgbClr val="009e8d"/>
              </a:solidFill>
              <a:latin typeface="Arial"/>
            </a:endParaRPr>
          </a:p>
          <a:p>
            <a:pPr lvl="4" marL="1067040" indent="-260640">
              <a:spcBef>
                <a:spcPts val="300"/>
              </a:spcBef>
              <a:spcAft>
                <a:spcPts val="300"/>
              </a:spcAft>
              <a:buClr>
                <a:srgbClr val="009e8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  <a:ea typeface="MS PGothic"/>
              </a:rPr>
              <a:t>Monde économique (entreprises lucrative et tiers secteurs)</a:t>
            </a:r>
            <a:endParaRPr b="1" lang="en-US" sz="1400" spc="-1" strike="noStrike">
              <a:solidFill>
                <a:srgbClr val="009e8d"/>
              </a:solidFill>
              <a:latin typeface="Arial"/>
            </a:endParaRPr>
          </a:p>
          <a:p>
            <a:pPr lvl="4" marL="1067040" indent="-260640">
              <a:spcBef>
                <a:spcPts val="300"/>
              </a:spcBef>
              <a:spcAft>
                <a:spcPts val="300"/>
              </a:spcAft>
              <a:buClr>
                <a:srgbClr val="009e8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400" spc="-1" strike="noStrike">
                <a:solidFill>
                  <a:srgbClr val="009e8d"/>
                </a:solidFill>
                <a:latin typeface="Arial"/>
                <a:ea typeface="MS PGothic"/>
              </a:rPr>
              <a:t>Société civile (citoyens et associations)</a:t>
            </a:r>
            <a:endParaRPr b="1" lang="en-US" sz="1400" spc="-1" strike="noStrike">
              <a:solidFill>
                <a:srgbClr val="009e8d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Résultats des 3 premiers ateliers : 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35480" indent="-28296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cf1e75"/>
                </a:solidFill>
                <a:latin typeface="Arial"/>
                <a:ea typeface="MS PGothic"/>
              </a:rPr>
              <a:t>Diversité des futurs possibles, de positionnement des acteurs et d’idées d’actions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2 fiches à renseigner « Vision 2025 » et « Scénario 2025 »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282960" indent="-28296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Le crash-test</a:t>
            </a:r>
            <a:endParaRPr b="1" lang="en-US" sz="33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754360" y="3067200"/>
          <a:ext cx="5110200" cy="3390840"/>
        </p:xfrm>
        <a:graphic>
          <a:graphicData uri="http://schemas.openxmlformats.org/drawingml/2006/table">
            <a:tbl>
              <a:tblPr/>
              <a:tblGrid>
                <a:gridCol w="981000"/>
                <a:gridCol w="41292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urée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009e8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éroulé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009e8d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résentation du scénario « pouvoirs publics locaux »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Questions-réponses de la salle 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résentation du scénario « monde économique»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Questions-réponses de la salle 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résentation du scénario « société civile »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0 min :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9e8d"/>
                      </a:solidFill>
                    </a:lnL>
                    <a:lnR>
                      <a:noFill/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Questions-réponses de la salle </a:t>
                      </a:r>
                      <a:endParaRPr b="0" lang="en-US" sz="14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e8d"/>
                      </a:solidFill>
                    </a:lnR>
                    <a:lnT w="5760">
                      <a:solidFill>
                        <a:srgbClr val="009e8d"/>
                      </a:solidFill>
                    </a:lnT>
                    <a:lnB w="576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Espace réservé du contenu 2"/>
          <p:cNvSpPr/>
          <p:nvPr/>
        </p:nvSpPr>
        <p:spPr>
          <a:xfrm>
            <a:off x="495360" y="125892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que participant incarne un « rôle » correspondant à la typologie d’acteurs du groupe auquel il a participé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que groupe choisi 2 rapporteurs qui présenteront le scénario en incarnant leurs rôles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uite à leur présentation, les autres participants les interrogent, en incarnant eux aussi leurs rôles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Quels acteurs incarner ?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95360" y="1600200"/>
            <a:ext cx="445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Pouvoirs locaux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Élus grandes collectivités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Élu régional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Élu petites collectivités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DGS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rgé de mission Agenda 21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rgé de mission démocratie locale,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Etc.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34308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marL="34308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marL="34308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93800" y="4697280"/>
            <a:ext cx="49532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Société civile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Associations diverses et variées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Représentant de Conseil de développement, ou autre instance de concertation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Habitants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Etc.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715000" y="1623960"/>
            <a:ext cx="390852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Monde économique</a:t>
            </a: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ef grosse entreprise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ef PME/TPE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yndicat patronal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yndicat ouvrier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alarié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Responsable RSE,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Etc.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501640"/>
            <a:ext cx="8915400" cy="114300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2. Conclus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9:35:51Z</dcterms:created>
  <dc:creator>Cécile Maupeu</dc:creator>
  <dc:description/>
  <dc:language>en-US</dc:language>
  <cp:lastModifiedBy>Louise VAISMAN</cp:lastModifiedBy>
  <cp:lastPrinted>2015-01-13T10:36:15Z</cp:lastPrinted>
  <dcterms:modified xsi:type="dcterms:W3CDTF">2016-05-23T16:20:52Z</dcterms:modified>
  <cp:revision>345</cp:revision>
  <dc:subject/>
  <dc:title>Présentation PowerPoint</dc:title>
</cp:coreProperties>
</file>