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3DBE9-1329-4EBE-909D-49CB15025F44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move the slide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8D711-9C9B-467E-8670-73517CF0B8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B30D7-E57E-41DD-AEDA-4ECA8405275D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E298C-CF7A-44C5-8389-329535F3B421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48880-9BD7-4BEF-820F-DE331A269BB8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99D12-01DE-42DD-9488-35D831447CC1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ésentation des 4 panneaux et de quelques éléments clés pour chaq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01046-06AE-4623-93DC-4AC0B14F3616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ts-clés présentant les mondes issus de l’atelier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F1FDF-3B13-4E92-BF18-ABE685CA5726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ts-clés présentant les mondes issus de l’atelier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ED746-33EA-4D74-924C-BCF438186415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ts-clés présentant les mondes issus de l’atelier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38C69-F64C-475E-AACB-2DF22B5848B8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8F8D9-F6A1-4D01-B30E-2192522F1102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ts-clés présentant les mondes issus de l’atelier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E0406-7C9B-4DBF-A2DC-5A7AFBD7153D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09503-9C54-4C5B-AA87-29E3765599B7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F1A12-0FAF-4308-B5F9-02C25BC460A9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063D8-03FE-4E78-B808-8AC7AB30A235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2C487-C99B-4570-A894-72A4FF5FF83A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5E17D-E1BE-4BB9-BA2D-CB115FE712E4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DD434-0899-48F2-986B-78FF39469F09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D096E-6040-4B29-B861-7887222AACAE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35E28-CC48-4933-83F3-6AE640C25357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9E9D-FB69-4D1A-A1AF-9C5F8FD9E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2F74-9483-4078-8154-6180CF7F2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35F2-3029-484F-BDB4-10F4D219F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D97C-7CB8-4179-8A50-05BBC5293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245C-0450-473B-851D-9D8EF23F7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7A57-5724-411B-A609-FD231ABD5B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CA364-83A7-4671-B381-F9CB6F19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5B23C-6757-418C-9628-FA369ECE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46A75-C36D-46FA-856F-B774DA5E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DA10-9D7B-4BCE-86ED-F57CACB9B8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57CD8-4403-41BC-9B64-14534A41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2357C-EAE0-4D7C-8AEA-8D170AC5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BFD89-1011-4D60-B157-7F0A299D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E9F58-97B6-490C-8B29-7F3D05E5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94100-5DA0-4B7E-852C-6483B888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49757-A1B8-4110-877E-121621C0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1252C-5D25-4BF4-8A0D-B689A7F5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015D5-692D-42B6-B4EB-2ED23F0D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A65A3-0329-4307-B8FB-27D57A9C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DF33-5153-410B-AA7A-F61801BAB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1C76-3DE8-44E1-ADF9-8831D2FD7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B72B-6FD9-4743-949A-65F0CBEE1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6AA5-36C8-4BD4-AC86-842F2B51A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7402-EE1A-4627-9DB0-DB8F4AF0B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7D61-E13A-4B86-B0F9-62F82143635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1DB3-F90B-443F-AD29-ABA89195EF70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18FF-11CF-4148-9488-05BBA60F7FE8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743040"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f1e75"/>
                </a:solidFill>
                <a:latin typeface="Tahoma (corps)"/>
              </a:rPr>
              <a:t>Second Outline Level</a:t>
            </a:r>
            <a:endParaRPr b="1" lang="en-US" sz="2800" spc="-1" strike="noStrike">
              <a:solidFill>
                <a:srgbClr val="cf1e75"/>
              </a:solidFill>
              <a:latin typeface="Tahoma (corps)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 (corps)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 (corps)"/>
            </a:endParaRPr>
          </a:p>
          <a:p>
            <a:pPr lvl="3" marL="339840" indent="1031760" algn="ctr"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e8d"/>
                </a:solidFill>
                <a:latin typeface="Tahoma (corps)"/>
              </a:rPr>
              <a:t>Fourth Outline Level</a:t>
            </a:r>
            <a:endParaRPr b="1" lang="en-US" sz="1800" spc="-1" strike="noStrike">
              <a:solidFill>
                <a:srgbClr val="009e8d"/>
              </a:solidFill>
              <a:latin typeface="Tahoma (corps)"/>
            </a:endParaRPr>
          </a:p>
          <a:p>
            <a:pPr lvl="4" marL="353880" indent="1474920" algn="ctr">
              <a:spcBef>
                <a:spcPts val="201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e8d"/>
                </a:solidFill>
                <a:latin typeface="Arial"/>
              </a:rPr>
              <a:t>Fifth Outline Level</a:t>
            </a:r>
            <a:endParaRPr b="1" lang="en-US" sz="1100" spc="-1" strike="noStrike">
              <a:solidFill>
                <a:srgbClr val="009e8d"/>
              </a:solidFill>
              <a:latin typeface="Arial"/>
            </a:endParaRPr>
          </a:p>
          <a:p>
            <a:pPr lvl="5" marL="353880" indent="1474920">
              <a:spcBef>
                <a:spcPts val="275"/>
              </a:spcBef>
              <a:buClr>
                <a:srgbClr val="009e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e8d"/>
                </a:solidFill>
                <a:latin typeface="Arial"/>
              </a:rPr>
              <a:t>Sixth Outline Level</a:t>
            </a:r>
            <a:endParaRPr b="1" lang="en-US" sz="1100" spc="-1" strike="noStrike">
              <a:solidFill>
                <a:srgbClr val="009e8d"/>
              </a:solidFill>
              <a:latin typeface="Arial"/>
            </a:endParaRPr>
          </a:p>
          <a:p>
            <a:pPr lvl="6" marL="353880" indent="1474920">
              <a:spcBef>
                <a:spcPts val="275"/>
              </a:spcBef>
              <a:buClr>
                <a:srgbClr val="009e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e8d"/>
                </a:solidFill>
                <a:latin typeface="Arial"/>
              </a:rPr>
              <a:t>Seventh Outline Level</a:t>
            </a:r>
            <a:endParaRPr b="1" lang="en-US" sz="1100" spc="-1" strike="noStrike">
              <a:solidFill>
                <a:srgbClr val="009e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9249-6BCC-4CDC-8055-2DAF2EE885AA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3C14-0D4F-4208-8693-3D08A7F210B1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4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9e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2D8FC-F7CB-473E-A7AD-52E19D2CEE9D}" type="slidenum">
              <a:rPr b="0" lang="fr-FR" sz="2400" spc="-1" strike="noStrike">
                <a:solidFill>
                  <a:srgbClr val="009e8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ous-titre 2"/>
          <p:cNvSpPr/>
          <p:nvPr/>
        </p:nvSpPr>
        <p:spPr>
          <a:xfrm>
            <a:off x="885960" y="2351160"/>
            <a:ext cx="82659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e1465"/>
                </a:solidFill>
                <a:latin typeface="Tahoma"/>
                <a:ea typeface="ヒラギノ角ゴ ProN W3"/>
              </a:rPr>
              <a:t>Atelier 3 : Quelles formes de contribution dans ces futurs possibles ?</a:t>
            </a:r>
            <a:endParaRPr b="0" lang="en-US" sz="3200" spc="-1" strike="noStrike">
              <a:solidFill>
                <a:srgbClr val="009e8d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ca392"/>
                </a:solidFill>
                <a:latin typeface="Tahoma"/>
                <a:ea typeface="ヒラギノ角ゴ ProN W3"/>
              </a:rPr>
              <a:t>Date de l’atelier</a:t>
            </a:r>
            <a:endParaRPr b="0" lang="en-US" sz="3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es 5 Ateliers prospectif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pic>
        <p:nvPicPr>
          <p:cNvPr id="196" name="Diagramme 33" descr=""/>
          <p:cNvPicPr/>
          <p:nvPr/>
        </p:nvPicPr>
        <p:blipFill>
          <a:blip r:embed="rId1"/>
          <a:stretch/>
        </p:blipFill>
        <p:spPr>
          <a:xfrm>
            <a:off x="1609560" y="1663560"/>
            <a:ext cx="7674120" cy="3737160"/>
          </a:xfrm>
          <a:prstGeom prst="rect">
            <a:avLst/>
          </a:prstGeom>
          <a:ln w="0">
            <a:noFill/>
          </a:ln>
        </p:spPr>
      </p:pic>
      <p:sp>
        <p:nvSpPr>
          <p:cNvPr id="197" name="ZoneTexte 34"/>
          <p:cNvSpPr/>
          <p:nvPr/>
        </p:nvSpPr>
        <p:spPr>
          <a:xfrm>
            <a:off x="235080" y="2933640"/>
            <a:ext cx="107604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e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Calibri"/>
                <a:ea typeface="ヒラギノ角ゴ ProN W3"/>
              </a:rPr>
              <a:t>Objectifs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98" name="ZoneTexte 35"/>
          <p:cNvSpPr/>
          <p:nvPr/>
        </p:nvSpPr>
        <p:spPr>
          <a:xfrm>
            <a:off x="235080" y="3813120"/>
            <a:ext cx="107604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e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Calibri"/>
                <a:ea typeface="ヒラギノ角ゴ ProN W3"/>
              </a:rPr>
              <a:t>Supports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99" name="ZoneTexte 36"/>
          <p:cNvSpPr/>
          <p:nvPr/>
        </p:nvSpPr>
        <p:spPr>
          <a:xfrm>
            <a:off x="163440" y="4702320"/>
            <a:ext cx="11476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e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Calibri"/>
                <a:ea typeface="ヒラギノ角ゴ ProN W3"/>
              </a:rPr>
              <a:t>Animation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  <p:cxnSp>
        <p:nvCxnSpPr>
          <p:cNvPr id="200" name="Connecteur droit avec flèche 37"/>
          <p:cNvCxnSpPr/>
          <p:nvPr/>
        </p:nvCxnSpPr>
        <p:spPr>
          <a:xfrm>
            <a:off x="1606320" y="1547280"/>
            <a:ext cx="4594680" cy="1080"/>
          </a:xfrm>
          <a:prstGeom prst="straightConnector1">
            <a:avLst/>
          </a:prstGeom>
          <a:ln w="25560">
            <a:solidFill>
              <a:srgbClr val="009e8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1" name="Connecteur droit avec flèche 38"/>
          <p:cNvCxnSpPr/>
          <p:nvPr/>
        </p:nvCxnSpPr>
        <p:spPr>
          <a:xfrm flipV="1">
            <a:off x="6338520" y="1539360"/>
            <a:ext cx="2948760" cy="8640"/>
          </a:xfrm>
          <a:prstGeom prst="straightConnector1">
            <a:avLst/>
          </a:prstGeom>
          <a:ln w="25560">
            <a:solidFill>
              <a:srgbClr val="009e8d"/>
            </a:solidFill>
            <a:miter/>
            <a:headEnd len="med" type="arrow" w="med"/>
            <a:tailEnd len="med" type="arrow" w="med"/>
          </a:ln>
        </p:spPr>
      </p:cxnSp>
      <p:sp>
        <p:nvSpPr>
          <p:cNvPr id="202" name="ZoneTexte 14"/>
          <p:cNvSpPr/>
          <p:nvPr/>
        </p:nvSpPr>
        <p:spPr>
          <a:xfrm>
            <a:off x="2936880" y="1198440"/>
            <a:ext cx="20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7f7f7f"/>
                </a:solidFill>
                <a:latin typeface="Calibri"/>
              </a:rPr>
              <a:t>Prospective exploratoire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03" name="ZoneTexte 20"/>
          <p:cNvSpPr/>
          <p:nvPr/>
        </p:nvSpPr>
        <p:spPr>
          <a:xfrm>
            <a:off x="6842160" y="1198440"/>
            <a:ext cx="20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7f7f7f"/>
                </a:solidFill>
                <a:latin typeface="Calibri"/>
              </a:rPr>
              <a:t>Prospective normative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04" name="Flèche courbée vers le haut 41"/>
          <p:cNvSpPr/>
          <p:nvPr/>
        </p:nvSpPr>
        <p:spPr>
          <a:xfrm>
            <a:off x="6934320" y="5403960"/>
            <a:ext cx="1747800" cy="409320"/>
          </a:xfrm>
          <a:custGeom>
            <a:avLst/>
            <a:gdLst>
              <a:gd name="textAreaLeft" fmla="*/ 398520 w 1747800"/>
              <a:gd name="textAreaRight" fmla="*/ 1298160 w 1747800"/>
              <a:gd name="textAreaTop" fmla="*/ 54720 h 409320"/>
              <a:gd name="textAreaBottom" fmla="*/ 35460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51" hR="21600" stAng="10800000" swAng="-5400000"/>
                <a:lnTo>
                  <a:pt x="11116" y="21600"/>
                </a:lnTo>
                <a:arcTo wR="9851" hR="21600" stAng="5400000" swAng="-3629030"/>
                <a:lnTo>
                  <a:pt x="21287" y="5400"/>
                </a:lnTo>
                <a:lnTo>
                  <a:pt x="20335" y="0"/>
                </a:lnTo>
                <a:lnTo>
                  <a:pt x="18756" y="5400"/>
                </a:lnTo>
                <a:lnTo>
                  <a:pt x="19389" y="5400"/>
                </a:lnTo>
                <a:arcTo wR="9851" hR="21600" stAng="1770970" swAng="3528186"/>
                <a:lnTo>
                  <a:pt x="10484" y="21555"/>
                </a:lnTo>
                <a:arcTo wR="9851" hR="21600" stAng="5500845" swAng="5299155"/>
                <a:close/>
              </a:path>
              <a:path fill="darkenLess" w="21600" h="21600">
                <a:moveTo>
                  <a:pt x="0" y="0"/>
                </a:moveTo>
                <a:arcTo wR="9851" hR="21600" stAng="10800000" swAng="-5400000"/>
                <a:lnTo>
                  <a:pt x="11116" y="21600"/>
                </a:lnTo>
                <a:arcTo wR="9851" hR="21600" stAng="5400000" swAng="100845"/>
                <a:lnTo>
                  <a:pt x="10484" y="21555"/>
                </a:lnTo>
                <a:arcTo wR="9851" hR="21600" stAng="5500845" swAng="5299155"/>
                <a:close/>
              </a:path>
            </a:pathLst>
          </a:custGeom>
          <a:solidFill>
            <a:srgbClr val="009e8d"/>
          </a:solidFill>
          <a:ln w="9360">
            <a:solidFill>
              <a:srgbClr val="009e8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05" name="ZoneTexte 42"/>
          <p:cNvSpPr/>
          <p:nvPr/>
        </p:nvSpPr>
        <p:spPr>
          <a:xfrm>
            <a:off x="7201080" y="5881680"/>
            <a:ext cx="107604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e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f7f7f"/>
                </a:solidFill>
                <a:latin typeface="Calibri"/>
              </a:rPr>
              <a:t>Réécriture des scénarios par l’équipe</a:t>
            </a:r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es livrable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A compléter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3. Retour sur les ateliers 1 &amp; 2 : immersion en 2025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Retour sur le déroulé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378080" y="1600200"/>
            <a:ext cx="830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e1465"/>
                </a:solidFill>
                <a:latin typeface="Tahoma"/>
              </a:rPr>
              <a:t>Atelier 1 : caractérisation des 4 mondes</a:t>
            </a:r>
            <a:endParaRPr b="1" lang="en-US" sz="2800" spc="-1" strike="noStrike">
              <a:solidFill>
                <a:srgbClr val="7e1465"/>
              </a:solidFill>
              <a:latin typeface="Tahoma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d"/>
                </a:solidFill>
                <a:latin typeface="Tahoma"/>
              </a:rPr>
              <a:t>Description de l’environnement territorial et de la gouvernance locale</a:t>
            </a:r>
            <a:endParaRPr b="1" lang="en-US" sz="1600" spc="-1" strike="noStrike">
              <a:solidFill>
                <a:srgbClr val="009e8d"/>
              </a:solidFill>
              <a:latin typeface="Tahoma (corps)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e1465"/>
                </a:solidFill>
                <a:latin typeface="Tahoma"/>
              </a:rPr>
              <a:t>Atelier 2 : mise en récit des 4 mondes au travers d’une situation de crise </a:t>
            </a:r>
            <a:endParaRPr b="1" lang="en-US" sz="2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7e1465"/>
                </a:solidFill>
                <a:latin typeface="Tahoma"/>
              </a:rPr>
              <a:t>Le rythme des événements climatiques extrêmes s’accélère !</a:t>
            </a: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lvl="3" marL="1346040" indent="-45720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d"/>
                </a:solidFill>
                <a:latin typeface="Tahoma"/>
              </a:rPr>
              <a:t>Face à une situation de crises multiples, analyse des marges de manœuvre de chaque monde et des pistes de solutions qui émergent</a:t>
            </a:r>
            <a:endParaRPr b="1" lang="en-US" sz="1600" spc="-1" strike="noStrike">
              <a:solidFill>
                <a:srgbClr val="009e8d"/>
              </a:solidFill>
              <a:latin typeface="Tahoma (corps)"/>
            </a:endParaRPr>
          </a:p>
          <a:p>
            <a:pPr lvl="1" marL="457200" indent="-45720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e8d"/>
                </a:solidFill>
                <a:latin typeface="Tahoma"/>
              </a:rPr>
              <a:t>Les 4 mondes du futur</a:t>
            </a:r>
            <a:endParaRPr b="1" lang="en-US" sz="40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495080" y="1600200"/>
            <a:ext cx="791532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Arial"/>
              </a:rPr>
              <a:t>Comment ces 4 mondes ont-ils été définis ?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haque monde incarne le prolongement d’une hypothèse prédéfinie par nos soins sur l’évolution du territoire à 2025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4 hypothèses d’évolution = au cœur de nombreux travaux prospectifs (La Fonda, IAU, 4D, ETD, Futuribles…)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Présentés sous-forme de posters A1 imagés 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ヒラギノ角ゴ ProN W3"/>
              </a:rPr>
              <a:t>Le rôle de ces mondes : 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Immerger les participants dans un vaste champ de possible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Susciter la créativité et l’imagination par l’image et les symboles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Amener à une mise en situation rapide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Image 1" descr="catastrophe+pictos.jpg"/>
          <p:cNvPicPr/>
          <p:nvPr/>
        </p:nvPicPr>
        <p:blipFill>
          <a:blip r:embed="rId1"/>
          <a:stretch/>
        </p:blipFill>
        <p:spPr>
          <a:xfrm>
            <a:off x="39600" y="3448080"/>
            <a:ext cx="4826160" cy="3409920"/>
          </a:xfrm>
          <a:prstGeom prst="rect">
            <a:avLst/>
          </a:prstGeom>
          <a:ln w="0">
            <a:noFill/>
          </a:ln>
        </p:spPr>
      </p:pic>
      <p:pic>
        <p:nvPicPr>
          <p:cNvPr id="214" name="Image 2" descr="statu quo+pictos2.jpg"/>
          <p:cNvPicPr/>
          <p:nvPr/>
        </p:nvPicPr>
        <p:blipFill>
          <a:blip r:embed="rId2"/>
          <a:stretch/>
        </p:blipFill>
        <p:spPr>
          <a:xfrm>
            <a:off x="39600" y="19080"/>
            <a:ext cx="4826160" cy="3409920"/>
          </a:xfrm>
          <a:prstGeom prst="rect">
            <a:avLst/>
          </a:prstGeom>
          <a:ln w="0">
            <a:noFill/>
          </a:ln>
        </p:spPr>
      </p:pic>
      <p:pic>
        <p:nvPicPr>
          <p:cNvPr id="215" name="Image 3" descr="alternative+pictos.jpg"/>
          <p:cNvPicPr/>
          <p:nvPr/>
        </p:nvPicPr>
        <p:blipFill>
          <a:blip r:embed="rId3"/>
          <a:stretch/>
        </p:blipFill>
        <p:spPr>
          <a:xfrm>
            <a:off x="4983120" y="3448080"/>
            <a:ext cx="4835520" cy="3416400"/>
          </a:xfrm>
          <a:prstGeom prst="rect">
            <a:avLst/>
          </a:prstGeom>
          <a:ln w="0">
            <a:noFill/>
          </a:ln>
        </p:spPr>
      </p:pic>
      <p:pic>
        <p:nvPicPr>
          <p:cNvPr id="216" name="Image 4" descr="techno+pictos.jpg"/>
          <p:cNvPicPr/>
          <p:nvPr/>
        </p:nvPicPr>
        <p:blipFill>
          <a:blip r:embed="rId4"/>
          <a:stretch/>
        </p:blipFill>
        <p:spPr>
          <a:xfrm>
            <a:off x="4983120" y="23760"/>
            <a:ext cx="4835520" cy="34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Quatre mondes contrasté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550880" y="1782720"/>
          <a:ext cx="6604200" cy="4022640"/>
        </p:xfrm>
        <a:graphic>
          <a:graphicData uri="http://schemas.openxmlformats.org/drawingml/2006/table">
            <a:tbl>
              <a:tblPr/>
              <a:tblGrid>
                <a:gridCol w="3302280"/>
                <a:gridCol w="3301920"/>
              </a:tblGrid>
              <a:tr h="201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7e1465"/>
                          </a:solidFill>
                          <a:latin typeface="Arial"/>
                          <a:ea typeface="ヒラギノ角ゴ ProN W3"/>
                        </a:rPr>
                        <a:t>Le monde du Statu quo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oursuite des déséquilibres, absence de régulation, accroissement des inégalités…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e8d"/>
                      </a:solidFill>
                    </a:lnL>
                    <a:lnR w="18720">
                      <a:solidFill>
                        <a:srgbClr val="009e8d"/>
                      </a:solidFill>
                    </a:lnR>
                    <a:lnT w="18720">
                      <a:solidFill>
                        <a:srgbClr val="009e8d"/>
                      </a:solidFill>
                    </a:lnT>
                    <a:lnB w="18720">
                      <a:solidFill>
                        <a:srgbClr val="009e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7e1465"/>
                          </a:solidFill>
                          <a:latin typeface="Arial"/>
                          <a:ea typeface="ヒラギノ角ゴ ProN W3"/>
                        </a:rPr>
                        <a:t>Le monde de la Catastrophe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ggravation de la situation, repli autoritaire et sécuritaire, multiplication des crises, conflits sociaux…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e8d"/>
                      </a:solidFill>
                    </a:lnL>
                    <a:lnR w="18720">
                      <a:solidFill>
                        <a:srgbClr val="009e8d"/>
                      </a:solidFill>
                    </a:lnR>
                    <a:lnT w="18720">
                      <a:solidFill>
                        <a:srgbClr val="009e8d"/>
                      </a:solidFill>
                    </a:lnT>
                    <a:lnB w="18720">
                      <a:solidFill>
                        <a:srgbClr val="009e8d"/>
                      </a:solidFill>
                    </a:lnB>
                    <a:noFill/>
                  </a:tcPr>
                </a:tc>
              </a:tr>
              <a:tr h="201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7e1465"/>
                          </a:solidFill>
                          <a:latin typeface="Arial"/>
                          <a:ea typeface="ヒラギノ角ゴ ProN W3"/>
                        </a:rPr>
                        <a:t>Le monde de la Techno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Innovations technologiques et organisationelles, civilisation numérique, réseaux…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e8d"/>
                      </a:solidFill>
                    </a:lnL>
                    <a:lnR w="18720">
                      <a:solidFill>
                        <a:srgbClr val="009e8d"/>
                      </a:solidFill>
                    </a:lnR>
                    <a:lnT w="18720">
                      <a:solidFill>
                        <a:srgbClr val="009e8d"/>
                      </a:solidFill>
                    </a:lnT>
                    <a:lnB w="18720">
                      <a:solidFill>
                        <a:srgbClr val="009e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7e1465"/>
                          </a:solidFill>
                          <a:latin typeface="Arial"/>
                          <a:ea typeface="ヒラギノ角ゴ ProN W3"/>
                        </a:rPr>
                        <a:t>Le monde de l’Alternative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Métamorphose du système de valeurs, société de la responsabilité, altruisme généralisé…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e8d"/>
                      </a:solidFill>
                    </a:lnL>
                    <a:lnR w="18720">
                      <a:solidFill>
                        <a:srgbClr val="009e8d"/>
                      </a:solidFill>
                    </a:lnR>
                    <a:lnT w="18720">
                      <a:solidFill>
                        <a:srgbClr val="009e8d"/>
                      </a:solidFill>
                    </a:lnT>
                    <a:lnB w="18720">
                      <a:solidFill>
                        <a:srgbClr val="009e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ZoneTexte 5"/>
          <p:cNvSpPr/>
          <p:nvPr/>
        </p:nvSpPr>
        <p:spPr>
          <a:xfrm>
            <a:off x="235080" y="52657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4680"/>
            <a:ext cx="558792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7885f"/>
                </a:solidFill>
                <a:latin typeface="Arial"/>
                <a:ea typeface="ヒラギノ角ゴ ProN W3"/>
              </a:rPr>
              <a:t>Arielle Messy</a:t>
            </a:r>
            <a:r>
              <a:rPr b="0" lang="fr-FR" sz="1400" spc="-1" strike="noStrike">
                <a:solidFill>
                  <a:srgbClr val="e7885f"/>
                </a:solidFill>
                <a:latin typeface="Arial"/>
                <a:ea typeface="ヒラギノ角ゴ ProN W3"/>
              </a:rPr>
              <a:t>, Experte La Croix Rouge 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7885f"/>
                </a:solidFill>
                <a:latin typeface="Arial"/>
                <a:ea typeface="ヒラギノ角ゴ ProN W3"/>
              </a:rPr>
              <a:t>Noé Larche</a:t>
            </a:r>
            <a:r>
              <a:rPr b="0" lang="fr-FR" sz="1400" spc="-1" strike="noStrike">
                <a:solidFill>
                  <a:srgbClr val="e7885f"/>
                </a:solidFill>
                <a:latin typeface="Arial"/>
                <a:ea typeface="ヒラギノ角ゴ ProN W3"/>
              </a:rPr>
              <a:t>, Agriculteur représentant d’un collectif d’agriculteurs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221" name="Image 2" descr=""/>
          <p:cNvPicPr/>
          <p:nvPr/>
        </p:nvPicPr>
        <p:blipFill>
          <a:blip r:embed="rId1"/>
          <a:stretch/>
        </p:blipFill>
        <p:spPr>
          <a:xfrm>
            <a:off x="0" y="982800"/>
            <a:ext cx="8713800" cy="5875200"/>
          </a:xfrm>
          <a:prstGeom prst="rect">
            <a:avLst/>
          </a:prstGeom>
          <a:ln w="0">
            <a:noFill/>
          </a:ln>
        </p:spPr>
      </p:pic>
      <p:pic>
        <p:nvPicPr>
          <p:cNvPr id="222" name="Image 2" descr="statu quo+pictos2.jpg"/>
          <p:cNvPicPr/>
          <p:nvPr/>
        </p:nvPicPr>
        <p:blipFill>
          <a:blip r:embed="rId2"/>
          <a:stretch/>
        </p:blipFill>
        <p:spPr>
          <a:xfrm>
            <a:off x="7300800" y="0"/>
            <a:ext cx="2605320" cy="1841400"/>
          </a:xfrm>
          <a:prstGeom prst="rect">
            <a:avLst/>
          </a:prstGeom>
          <a:ln w="0">
            <a:noFill/>
          </a:ln>
        </p:spPr>
      </p:pic>
      <p:sp>
        <p:nvSpPr>
          <p:cNvPr id="223" name="ZoneTexte 3"/>
          <p:cNvSpPr/>
          <p:nvPr/>
        </p:nvSpPr>
        <p:spPr>
          <a:xfrm>
            <a:off x="8339040" y="5661000"/>
            <a:ext cx="1567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0" y="0"/>
            <a:ext cx="587052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df6993"/>
                </a:solidFill>
                <a:latin typeface="Arial"/>
                <a:ea typeface="ヒラギノ角ゴ ProN W3"/>
              </a:rPr>
              <a:t>Perrine</a:t>
            </a:r>
            <a:r>
              <a:rPr b="0" lang="fr-FR" sz="1400" spc="-1" strike="noStrike">
                <a:solidFill>
                  <a:srgbClr val="df6993"/>
                </a:solidFill>
                <a:latin typeface="Arial"/>
                <a:ea typeface="ヒラギノ角ゴ ProN W3"/>
              </a:rPr>
              <a:t>, citoyenne active de la résilience - Cellule n°12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df6993"/>
                </a:solidFill>
                <a:latin typeface="Arial"/>
                <a:ea typeface="ヒラギノ角ゴ ProN W3"/>
              </a:rPr>
              <a:t>Lena</a:t>
            </a:r>
            <a:r>
              <a:rPr b="0" lang="fr-FR" sz="1400" spc="-1" strike="noStrike">
                <a:solidFill>
                  <a:srgbClr val="df6993"/>
                </a:solidFill>
                <a:latin typeface="Arial"/>
                <a:ea typeface="ヒラギノ角ゴ ProN W3"/>
              </a:rPr>
              <a:t>, éleveuse de coccinelles - Médiatrice du quartier « Al Campo »  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225" name="Image 3" descr=""/>
          <p:cNvPicPr/>
          <p:nvPr/>
        </p:nvPicPr>
        <p:blipFill>
          <a:blip r:embed="rId1"/>
          <a:stretch/>
        </p:blipFill>
        <p:spPr>
          <a:xfrm>
            <a:off x="0" y="1685880"/>
            <a:ext cx="9906120" cy="5172120"/>
          </a:xfrm>
          <a:prstGeom prst="rect">
            <a:avLst/>
          </a:prstGeom>
          <a:ln w="0">
            <a:noFill/>
          </a:ln>
        </p:spPr>
      </p:pic>
      <p:pic>
        <p:nvPicPr>
          <p:cNvPr id="226" name="Image 3" descr="alternative+pictos.jpg"/>
          <p:cNvPicPr/>
          <p:nvPr/>
        </p:nvPicPr>
        <p:blipFill>
          <a:blip r:embed="rId2"/>
          <a:stretch/>
        </p:blipFill>
        <p:spPr>
          <a:xfrm>
            <a:off x="7365960" y="0"/>
            <a:ext cx="254016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-19080" y="0"/>
            <a:ext cx="602784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ba0b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Philippe De La Chapelle De Poissy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, Préfet Métropole de Paris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Aline Duboi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, Fondatrice de la Communauté de l’est 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Miguel Gonzale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, représentant des exclus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228" name="Image 2" descr=""/>
          <p:cNvPicPr/>
          <p:nvPr/>
        </p:nvPicPr>
        <p:blipFill>
          <a:blip r:embed="rId1"/>
          <a:stretch/>
        </p:blipFill>
        <p:spPr>
          <a:xfrm>
            <a:off x="0" y="2006640"/>
            <a:ext cx="9887040" cy="4921200"/>
          </a:xfrm>
          <a:prstGeom prst="rect">
            <a:avLst/>
          </a:prstGeom>
          <a:ln w="0">
            <a:noFill/>
          </a:ln>
        </p:spPr>
      </p:pic>
      <p:pic>
        <p:nvPicPr>
          <p:cNvPr id="229" name="Image 1" descr="catastrophe+pictos.jpg"/>
          <p:cNvPicPr/>
          <p:nvPr/>
        </p:nvPicPr>
        <p:blipFill>
          <a:blip r:embed="rId2"/>
          <a:stretch/>
        </p:blipFill>
        <p:spPr>
          <a:xfrm>
            <a:off x="7126200" y="0"/>
            <a:ext cx="277992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Déroulé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811160" y="1417680"/>
          <a:ext cx="7172640" cy="4635360"/>
        </p:xfrm>
        <a:graphic>
          <a:graphicData uri="http://schemas.openxmlformats.org/drawingml/2006/table">
            <a:tbl>
              <a:tblPr/>
              <a:tblGrid>
                <a:gridCol w="1117800"/>
                <a:gridCol w="4594320"/>
                <a:gridCol w="1460520"/>
              </a:tblGrid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Duré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Intitulé de la séquenc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Intervenan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14h00-14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Accueil des participants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292934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23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14h15-14h3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Tour de table des participan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3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14h30-15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Introduction en plénière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Présentation du projet de prospective et de l’état d’avancement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Présentation de la méthode de travail et des attendus des ateliers 3 et 4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Projection du film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Répartition en groupe et consignes de travail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62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15h00-15h4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Travail en 5 sous-groupes : 1 groupe par besoin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Désignation de deux rapporteurs par groupe et du garant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Définition des enjeux par monde 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15h45-16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PAUS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16h00-17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Travail en 5 sous-groupes : 1 groupe par besoin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Réflexion sur les nouvelles formes de contribution et remplissage des fiches initiativ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Préparation de la synthèse de restitution en pléniè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17h00-17h5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Restitution des travaux en sous groupes en séance pléniè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Présentation par les rapporteurs des résultats de chaque sous-group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Echanges et débats avec les autres group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17h55-18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  <a:ea typeface="ヒラギノ角ゴ ProN W3"/>
                        </a:rPr>
                        <a:t>Conclusion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Helvetica Neue"/>
                        </a:rPr>
                        <a:t>18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Fin de l’atelier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292934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0" y="0"/>
            <a:ext cx="566568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e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06821"/>
                </a:solidFill>
                <a:latin typeface="Arial"/>
                <a:ea typeface="ヒラギノ角ゴ ProN W3"/>
              </a:rPr>
              <a:t>V</a:t>
            </a:r>
            <a:r>
              <a:rPr b="0" lang="fr-FR" sz="1400" spc="-1" strike="noStrike">
                <a:solidFill>
                  <a:srgbClr val="e06821"/>
                </a:solidFill>
                <a:latin typeface="Arial"/>
                <a:ea typeface="ヒラギノ角ゴ ProN W3"/>
              </a:rPr>
              <a:t>, Collectif Libératrices et libérateurs de données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06821"/>
                </a:solidFill>
                <a:latin typeface="Arial"/>
                <a:ea typeface="ヒラギノ角ゴ ProN W3"/>
              </a:rPr>
              <a:t>Francis Lien</a:t>
            </a:r>
            <a:r>
              <a:rPr b="0" lang="fr-FR" sz="1400" spc="-1" strike="noStrike">
                <a:solidFill>
                  <a:srgbClr val="e06821"/>
                </a:solidFill>
                <a:latin typeface="Arial"/>
                <a:ea typeface="ヒラギノ角ゴ ProN W3"/>
              </a:rPr>
              <a:t>, Président du Territoire Île-de-France 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231" name="Image 3" descr=""/>
          <p:cNvPicPr/>
          <p:nvPr/>
        </p:nvPicPr>
        <p:blipFill>
          <a:blip r:embed="rId1"/>
          <a:stretch/>
        </p:blipFill>
        <p:spPr>
          <a:xfrm>
            <a:off x="0" y="903240"/>
            <a:ext cx="9304200" cy="5972400"/>
          </a:xfrm>
          <a:prstGeom prst="rect">
            <a:avLst/>
          </a:prstGeom>
          <a:ln w="0">
            <a:noFill/>
          </a:ln>
        </p:spPr>
      </p:pic>
      <p:pic>
        <p:nvPicPr>
          <p:cNvPr id="232" name="Image 4" descr="techno+pictos.jpg"/>
          <p:cNvPicPr/>
          <p:nvPr/>
        </p:nvPicPr>
        <p:blipFill>
          <a:blip r:embed="rId2"/>
          <a:stretch/>
        </p:blipFill>
        <p:spPr>
          <a:xfrm>
            <a:off x="7307280" y="0"/>
            <a:ext cx="2598840" cy="1835280"/>
          </a:xfrm>
          <a:prstGeom prst="rect">
            <a:avLst/>
          </a:prstGeom>
          <a:ln w="0">
            <a:noFill/>
          </a:ln>
        </p:spPr>
      </p:pic>
      <p:sp>
        <p:nvSpPr>
          <p:cNvPr id="233" name="ZoneTexte 36"/>
          <p:cNvSpPr/>
          <p:nvPr/>
        </p:nvSpPr>
        <p:spPr>
          <a:xfrm>
            <a:off x="8339040" y="5661000"/>
            <a:ext cx="1567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6368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4. Travail en groupe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3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Atelier 3 – Quelles formes de contribution dans ces futurs possibles ?</a:t>
            </a:r>
            <a:endParaRPr b="1" lang="en-US" sz="33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1000" y="1914120"/>
            <a:ext cx="77994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Tahoma"/>
                <a:ea typeface="Tahoma"/>
              </a:rPr>
              <a:t>Objectif</a:t>
            </a:r>
            <a:r>
              <a:rPr b="1" lang="fr-FR" sz="1800" spc="-1" strike="noStrike">
                <a:solidFill>
                  <a:srgbClr val="7e1465"/>
                </a:solidFill>
                <a:latin typeface="Tahoma"/>
                <a:ea typeface="Tahoma"/>
              </a:rPr>
              <a:t> 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Réfléchir aux formes de contributions possibles en 2025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3" marL="1800360" indent="-457200"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9e8d"/>
                </a:solidFill>
                <a:latin typeface="Tahoma (corps)"/>
              </a:rPr>
              <a:t>pour différentes thématiques de projet </a:t>
            </a:r>
            <a:endParaRPr b="1" lang="en-US" sz="1600" spc="-1" strike="noStrike">
              <a:solidFill>
                <a:srgbClr val="009e8d"/>
              </a:solidFill>
              <a:latin typeface="Tahoma (corps)"/>
            </a:endParaRPr>
          </a:p>
          <a:p>
            <a:pPr lvl="3" marL="1800360" indent="-457200">
              <a:buClr>
                <a:srgbClr val="009e8d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9e8d"/>
                </a:solidFill>
                <a:latin typeface="Tahoma (corps)"/>
              </a:rPr>
              <a:t>dans chacun des mondes</a:t>
            </a:r>
            <a:endParaRPr b="1" lang="en-US" sz="1600" spc="-1" strike="noStrike">
              <a:solidFill>
                <a:srgbClr val="009e8d"/>
              </a:solidFill>
              <a:latin typeface="Tahoma (corps)"/>
            </a:endParaRPr>
          </a:p>
          <a:p>
            <a:pPr lvl="3" marL="1800360" indent="-457200"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9e8d"/>
              </a:solidFill>
              <a:latin typeface="Tahoma (corps)"/>
            </a:endParaRPr>
          </a:p>
          <a:p>
            <a:pPr lvl="2" marL="271440" indent="-271440"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Tahoma (corps)"/>
                <a:ea typeface="ヒラギノ角ゴ ProN W3"/>
              </a:rPr>
              <a:t>Animation</a:t>
            </a:r>
            <a:r>
              <a:rPr b="1" lang="fr-FR" sz="1800" spc="-1" strike="noStrike">
                <a:solidFill>
                  <a:srgbClr val="7e1465"/>
                </a:solidFill>
                <a:latin typeface="Tahoma (corps)"/>
                <a:ea typeface="ヒラギノ角ゴ ProN W3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Répartition en 5 sous-groupes : 1 par besoin/thème 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 (corps)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Se nourrir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 (corps)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Habiter et se déplacer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 (corps)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Répondre aux besoins énergétiques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 (corps)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Produire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ahoma (corps)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Participer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3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Atelier 3 – Quelles formes de contribution dans ces futurs possibles ?</a:t>
            </a:r>
            <a:endParaRPr b="1" lang="en-US" sz="33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611000" y="2031480"/>
            <a:ext cx="77994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271440" indent="-271440"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Tahoma (corps)"/>
                <a:ea typeface="ヒラギノ角ゴ ProN W3"/>
              </a:rPr>
              <a:t>Animation</a:t>
            </a:r>
            <a:r>
              <a:rPr b="1" lang="fr-FR" sz="1800" spc="-1" strike="noStrike">
                <a:solidFill>
                  <a:srgbClr val="7e1465"/>
                </a:solidFill>
                <a:latin typeface="Tahoma (corps)"/>
                <a:ea typeface="ヒラギノ角ゴ ProN W3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TEMPS 1 : DÉFINITION DES ENJEUX DE LA TRANSITION PAR MONDE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 (corps)"/>
                <a:ea typeface="MS PGothic"/>
              </a:rPr>
              <a:t>TEMPS 2 : ÉLABORATION D’INITIATIVES DE CONTRIBUTION EN 2025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ヒラギノ角ゴ ProN W3"/>
              </a:rPr>
              <a:t>Supports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ヒラギノ角ゴ ProN W3"/>
              </a:rPr>
              <a:t> : 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4 mondes du futur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1 fiche à renseigner sur les enjeux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Les fiches « initiative de contribution »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501640"/>
            <a:ext cx="8915400" cy="114300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5. Conclusion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2290320" y="2414520"/>
            <a:ext cx="480060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f1e75"/>
                </a:solidFill>
                <a:latin typeface="Tahoma"/>
              </a:rPr>
              <a:t>Merci à tous et toutes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f1e75"/>
                </a:solidFill>
                <a:latin typeface="Tahoma"/>
              </a:rPr>
              <a:t>À demain !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ca392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ca392"/>
                </a:solidFill>
                <a:latin typeface="Tahoma"/>
              </a:rPr>
              <a:t>Introduction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Ordre du jour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20520" y="2125800"/>
            <a:ext cx="850716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Présentation du </a:t>
            </a: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projet</a:t>
            </a: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 de prospective et de l’état d’avancement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Présentation de la méthode de travail et des attendus des ateliers 3 et 4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Projection du film 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Répartition en groupe et consignes de travail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1. Le projet de l’ARENE Île-de-France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Un const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95000" y="1600200"/>
            <a:ext cx="89154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La société civile (acteurs socio-professionnels, citoyens, associations) est insuffisamment associée aux décisions politiques, et le passage à la pratique de l’action collaborative reste un sujet difficile à mettre en place par manque d’habitude et de savoir-faire des décideurs.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es enjeux locaux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A compléter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2. La prospective exploratoire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a méthode d</a:t>
            </a:r>
            <a:r>
              <a:rPr b="1" lang="ja-JP" sz="41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animation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280" y="14176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Arial"/>
              </a:rPr>
              <a:t>Animation de 5 Ateliers prospectifs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Objecti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 : 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imaginer de nouvelles pratiques collaboratives entre société civile, acteurs 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économiques et collectivités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Moyen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 :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12002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Fertilisation croisé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: réunir des acteurs d’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horizons différents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2" marL="12002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Prospective et mise en situ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: amener à un décalage par rapport au quotidien / provoquer 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nnovation /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susciter la créativité 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2" marL="12002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1800" spc="-1" strike="noStrike">
                <a:solidFill>
                  <a:srgbClr val="7e1465"/>
                </a:solidFill>
                <a:latin typeface="Arial"/>
                <a:ea typeface="Arial"/>
              </a:rPr>
              <a:t>Progression des travaux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  <p:pic>
        <p:nvPicPr>
          <p:cNvPr id="178" name="Diagramme 3" descr=""/>
          <p:cNvPicPr/>
          <p:nvPr/>
        </p:nvPicPr>
        <p:blipFill>
          <a:blip r:embed="rId1"/>
          <a:stretch/>
        </p:blipFill>
        <p:spPr>
          <a:xfrm>
            <a:off x="285840" y="4206960"/>
            <a:ext cx="9358200" cy="1419120"/>
          </a:xfrm>
          <a:prstGeom prst="rect">
            <a:avLst/>
          </a:prstGeom>
          <a:ln w="0">
            <a:noFill/>
          </a:ln>
        </p:spPr>
      </p:pic>
      <p:cxnSp>
        <p:nvCxnSpPr>
          <p:cNvPr id="179" name="Connecteur droit avec flèche 4"/>
          <p:cNvCxnSpPr/>
          <p:nvPr/>
        </p:nvCxnSpPr>
        <p:spPr>
          <a:xfrm>
            <a:off x="1310760" y="5779800"/>
            <a:ext cx="2001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0" name="Connecteur droit avec flèche 5"/>
          <p:cNvCxnSpPr/>
          <p:nvPr/>
        </p:nvCxnSpPr>
        <p:spPr>
          <a:xfrm>
            <a:off x="3311280" y="5779800"/>
            <a:ext cx="1857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1" name="Connecteur droit avec flèche 6"/>
          <p:cNvCxnSpPr/>
          <p:nvPr/>
        </p:nvCxnSpPr>
        <p:spPr>
          <a:xfrm>
            <a:off x="5168520" y="5779800"/>
            <a:ext cx="1940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2" name="Connecteur droit avec flèche 7"/>
          <p:cNvCxnSpPr/>
          <p:nvPr/>
        </p:nvCxnSpPr>
        <p:spPr>
          <a:xfrm>
            <a:off x="8305560" y="5779800"/>
            <a:ext cx="1184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83" name="Connecteur droit 9"/>
          <p:cNvSpPr/>
          <p:nvPr/>
        </p:nvSpPr>
        <p:spPr>
          <a:xfrm flipV="1">
            <a:off x="132408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84" name="Connecteur droit 10"/>
          <p:cNvSpPr/>
          <p:nvPr/>
        </p:nvSpPr>
        <p:spPr>
          <a:xfrm flipV="1">
            <a:off x="331164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85" name="Connecteur droit 11"/>
          <p:cNvSpPr/>
          <p:nvPr/>
        </p:nvSpPr>
        <p:spPr>
          <a:xfrm flipV="1">
            <a:off x="516888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86" name="Connecteur droit 12"/>
          <p:cNvSpPr/>
          <p:nvPr/>
        </p:nvSpPr>
        <p:spPr>
          <a:xfrm flipV="1">
            <a:off x="710892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87" name="Connecteur droit 13"/>
          <p:cNvSpPr/>
          <p:nvPr/>
        </p:nvSpPr>
        <p:spPr>
          <a:xfrm flipV="1">
            <a:off x="830592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88" name="ZoneTexte 7"/>
          <p:cNvSpPr/>
          <p:nvPr/>
        </p:nvSpPr>
        <p:spPr>
          <a:xfrm>
            <a:off x="63360" y="5851440"/>
            <a:ext cx="13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Mois 1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89" name="ZoneTexte 8"/>
          <p:cNvSpPr/>
          <p:nvPr/>
        </p:nvSpPr>
        <p:spPr>
          <a:xfrm>
            <a:off x="1724040" y="585144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Mois 3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90" name="ZoneTexte 36"/>
          <p:cNvSpPr/>
          <p:nvPr/>
        </p:nvSpPr>
        <p:spPr>
          <a:xfrm>
            <a:off x="3578400" y="5851440"/>
            <a:ext cx="11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Mois 5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cxnSp>
        <p:nvCxnSpPr>
          <p:cNvPr id="191" name="Connecteur droit avec flèche 18"/>
          <p:cNvCxnSpPr/>
          <p:nvPr/>
        </p:nvCxnSpPr>
        <p:spPr>
          <a:xfrm>
            <a:off x="288720" y="5779800"/>
            <a:ext cx="1022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92" name="ZoneTexte 37"/>
          <p:cNvSpPr/>
          <p:nvPr/>
        </p:nvSpPr>
        <p:spPr>
          <a:xfrm>
            <a:off x="5446800" y="585144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Mois 6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cxnSp>
        <p:nvCxnSpPr>
          <p:cNvPr id="193" name="Connecteur droit avec flèche 20"/>
          <p:cNvCxnSpPr/>
          <p:nvPr/>
        </p:nvCxnSpPr>
        <p:spPr>
          <a:xfrm>
            <a:off x="7071840" y="5779800"/>
            <a:ext cx="1234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94" name="ZoneTexte 37"/>
          <p:cNvSpPr/>
          <p:nvPr/>
        </p:nvSpPr>
        <p:spPr>
          <a:xfrm>
            <a:off x="7040520" y="584532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Mois 7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09:35:51Z</dcterms:created>
  <dc:creator>Cécile Maupeu</dc:creator>
  <dc:description/>
  <dc:language>en-US</dc:language>
  <cp:lastModifiedBy>Louise VAISMAN</cp:lastModifiedBy>
  <dcterms:modified xsi:type="dcterms:W3CDTF">2016-05-23T16:02:33Z</dcterms:modified>
  <cp:revision>405</cp:revision>
  <dc:subject/>
  <dc:title>Présentation PowerPoint</dc:title>
</cp:coreProperties>
</file>